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  <p:sldId id="285" r:id="rId80"/>
    <p:sldId id="286" r:id="rId81"/>
    <p:sldId id="287" r:id="rId82"/>
    <p:sldId id="288" r:id="rId83"/>
    <p:sldId id="289" r:id="rId84"/>
    <p:sldId id="290" r:id="rId85"/>
    <p:sldId id="291" r:id="rId86"/>
    <p:sldId id="292" r:id="rId87"/>
    <p:sldId id="293" r:id="rId88"/>
    <p:sldId id="294" r:id="rId89"/>
    <p:sldId id="295" r:id="rId90"/>
    <p:sldId id="296" r:id="rId91"/>
    <p:sldId id="297" r:id="rId92"/>
    <p:sldId id="298" r:id="rId93"/>
    <p:sldId id="299" r:id="rId94"/>
    <p:sldId id="300" r:id="rId95"/>
    <p:sldId id="301" r:id="rId96"/>
    <p:sldId id="302" r:id="rId97"/>
    <p:sldId id="303" r:id="rId98"/>
    <p:sldId id="304" r:id="rId99"/>
    <p:sldId id="305" r:id="rId100"/>
    <p:sldId id="306" r:id="rId101"/>
    <p:sldId id="307" r:id="rId102"/>
    <p:sldId id="308" r:id="rId103"/>
    <p:sldId id="309" r:id="rId104"/>
    <p:sldId id="310" r:id="rId105"/>
    <p:sldId id="311" r:id="rId106"/>
    <p:sldId id="312" r:id="rId107"/>
    <p:sldId id="313" r:id="rId108"/>
    <p:sldId id="314" r:id="rId109"/>
    <p:sldId id="315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slide" Target="slides/slide30.xml"/><Relationship Id="rId81" Type="http://schemas.openxmlformats.org/officeDocument/2006/relationships/slide" Target="slides/slide31.xml"/><Relationship Id="rId82" Type="http://schemas.openxmlformats.org/officeDocument/2006/relationships/slide" Target="slides/slide32.xml"/><Relationship Id="rId83" Type="http://schemas.openxmlformats.org/officeDocument/2006/relationships/slide" Target="slides/slide33.xml"/><Relationship Id="rId84" Type="http://schemas.openxmlformats.org/officeDocument/2006/relationships/slide" Target="slides/slide34.xml"/><Relationship Id="rId85" Type="http://schemas.openxmlformats.org/officeDocument/2006/relationships/slide" Target="slides/slide35.xml"/><Relationship Id="rId86" Type="http://schemas.openxmlformats.org/officeDocument/2006/relationships/slide" Target="slides/slide36.xml"/><Relationship Id="rId87" Type="http://schemas.openxmlformats.org/officeDocument/2006/relationships/slide" Target="slides/slide37.xml"/><Relationship Id="rId88" Type="http://schemas.openxmlformats.org/officeDocument/2006/relationships/slide" Target="slides/slide38.xml"/><Relationship Id="rId89" Type="http://schemas.openxmlformats.org/officeDocument/2006/relationships/slide" Target="slides/slide39.xml"/><Relationship Id="rId90" Type="http://schemas.openxmlformats.org/officeDocument/2006/relationships/slide" Target="slides/slide40.xml"/><Relationship Id="rId91" Type="http://schemas.openxmlformats.org/officeDocument/2006/relationships/slide" Target="slides/slide41.xml"/><Relationship Id="rId92" Type="http://schemas.openxmlformats.org/officeDocument/2006/relationships/slide" Target="slides/slide42.xml"/><Relationship Id="rId93" Type="http://schemas.openxmlformats.org/officeDocument/2006/relationships/slide" Target="slides/slide43.xml"/><Relationship Id="rId94" Type="http://schemas.openxmlformats.org/officeDocument/2006/relationships/slide" Target="slides/slide44.xml"/><Relationship Id="rId95" Type="http://schemas.openxmlformats.org/officeDocument/2006/relationships/slide" Target="slides/slide45.xml"/><Relationship Id="rId96" Type="http://schemas.openxmlformats.org/officeDocument/2006/relationships/slide" Target="slides/slide46.xml"/><Relationship Id="rId97" Type="http://schemas.openxmlformats.org/officeDocument/2006/relationships/slide" Target="slides/slide47.xml"/><Relationship Id="rId98" Type="http://schemas.openxmlformats.org/officeDocument/2006/relationships/slide" Target="slides/slide48.xml"/><Relationship Id="rId99" Type="http://schemas.openxmlformats.org/officeDocument/2006/relationships/slide" Target="slides/slide49.xml"/><Relationship Id="rId100" Type="http://schemas.openxmlformats.org/officeDocument/2006/relationships/slide" Target="slides/slide50.xml"/><Relationship Id="rId101" Type="http://schemas.openxmlformats.org/officeDocument/2006/relationships/slide" Target="slides/slide51.xml"/><Relationship Id="rId102" Type="http://schemas.openxmlformats.org/officeDocument/2006/relationships/slide" Target="slides/slide52.xml"/><Relationship Id="rId103" Type="http://schemas.openxmlformats.org/officeDocument/2006/relationships/slide" Target="slides/slide53.xml"/><Relationship Id="rId104" Type="http://schemas.openxmlformats.org/officeDocument/2006/relationships/slide" Target="slides/slide54.xml"/><Relationship Id="rId105" Type="http://schemas.openxmlformats.org/officeDocument/2006/relationships/slide" Target="slides/slide55.xml"/><Relationship Id="rId106" Type="http://schemas.openxmlformats.org/officeDocument/2006/relationships/slide" Target="slides/slide56.xml"/><Relationship Id="rId107" Type="http://schemas.openxmlformats.org/officeDocument/2006/relationships/slide" Target="slides/slide57.xml"/><Relationship Id="rId108" Type="http://schemas.openxmlformats.org/officeDocument/2006/relationships/slide" Target="slides/slide58.xml"/><Relationship Id="rId109" Type="http://schemas.openxmlformats.org/officeDocument/2006/relationships/slide" Target="slides/slide59.xml"/><Relationship Id="rId110" Type="http://schemas.openxmlformats.org/officeDocument/2006/relationships/slide" Target="slides/slide60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 Box 12"/>
          <p:cNvSpPr/>
          <p:nvPr/>
        </p:nvSpPr>
        <p:spPr>
          <a:xfrm>
            <a:off x="3884760" y="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FD520-06C8-485D-BA7A-33EFB0F363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5F6A3-2AAA-4126-B03B-51FA180EEF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2A2A8-0660-47A1-9572-6D5C5B0C2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5D15D-DFD5-46F8-99BA-743F229AC9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4CA3E-4EF5-4898-ACE3-4CE1804629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3CF53-13B2-42DA-B0D6-A1B39A7403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587E3-BD08-41C7-9EC4-A7B6B5948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16357-5C00-44EA-9519-FBAC09C412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CCC76-0364-4299-80A1-9218BECF1A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31ED2-F28D-4F01-A817-F1644C746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F3D6E-CF47-4124-AEF8-1D25E3A897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5C2CB-A186-4FFC-B166-F54E438BA8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80717-1E5E-4362-A239-3C9703A879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D7B9B-60DA-4AFA-8D4A-EDC8404AEE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62B15-FD3B-4D21-B7EA-2F5B7DDD2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72E3C-14E4-4E4D-88C9-93A00C46B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F4170-CFC5-495F-A7CF-DFBA4DDF65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04A70-48EE-4783-B078-770F46AC1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8D4D1-52D4-4E46-B91D-B893DFD24D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2016E-2EAB-410F-9FC9-31BBA1F978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0FF6E-1697-4EF0-A148-3A6AA0BFB0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CBA8E-F1B8-47FC-BD48-8E2522A74E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395B4-F6A4-40B0-8748-B333AF1A3F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FBBCC-F907-4DDE-BAD2-D77A7CA64C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18D25-08A7-4D9C-A5AF-C81990F8B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7B164-1F4F-424C-B0B9-DFD3FDC1BE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03F31-AF55-4B96-B689-ECFD0074A9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FEC2F-5072-4178-B380-F3A2198FD2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B583D-E1D0-45BA-8092-A3AAD143B0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0D3FB-6C8B-40AF-AC5D-22DBC700C2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39A55-3BE9-4921-8CB0-9CF519117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AB0B1-4DFB-4054-9251-834312042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AA9CD-36B3-4B97-AB89-7D416646D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99FE1-30D6-4D0B-BE96-363588EF21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97E9E-52A1-42DA-827D-D0F774FF69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71D63-3986-41F7-AC62-02288D8EFA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255A3-10FC-4315-BC46-CB26740A3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38BBC-B245-4505-A18B-1ADFE6605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749D2-F631-46FF-8E86-786E1FC0C9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FA989-7657-482D-8EB0-4CAF731C8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B6122-8C09-4B35-8B6A-19438E3549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6B6EF-D4A0-469E-A69B-D5656D1340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75995-8704-4E4B-A60A-90F8949D2A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64E11-EECF-426D-B91F-DAE0E293D4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355BA-A6D1-47C5-853D-9D4D6F0ACD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F7649-C46A-4FD7-A987-E085398DB9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A9331-53C6-4170-BAC2-DC3FA40370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AF8B7-B5CA-45C8-8E24-FA19F733CE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D880F-B6D1-4EEB-BE98-4748DD92B8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ED291-066A-4854-8A81-4335C7AE3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327CA-0E60-40D4-A090-B4E822BCC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E8A8D-715D-4042-88C8-EE54894950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8AC73-C1AB-43CC-A54D-A9BB46C95D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B2ED4-5D17-488A-85C1-9DF3934E6E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36096-7ED8-4A73-80E5-8D3724D64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87618-46AB-4A04-A917-0263FE4BE9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10EFC-9F03-41B0-AE04-5C8380815B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1825E-5D0C-4D0D-BA3A-E73CBB4C3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65DBB-8036-4918-9291-2EF6979C65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69811-12EE-4B9E-B5B5-DE3EE52F3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EE98B-8B3F-4B85-BA28-EF1A6BCD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Rectangle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EF430-1565-4466-97A2-77F37C30DF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394FC-DD10-496D-927B-EC8D374DF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56B4F-2D00-4854-9AD6-536C3C7091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6BE9B-398C-4059-8803-D264E4A46D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496CB-F948-473F-8D67-A63D97D05D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A0E76-4B17-4D38-8174-C5EDFCA177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2A4C7-C97C-4AFB-950F-67C2ACF3B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FF529-5055-4DDD-9EF0-685510BDE9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210EE-3825-43FE-BF1A-CBF5746E6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4535E-21D7-412E-AEB4-EA22222098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21040-3BAE-4D7B-95CE-BFD8970DE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30F6F-7A53-49C8-BD6E-96145E2A7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E051C-8062-4E77-9C94-54C858BE9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94B07-6A60-48BC-AA6C-36C8C9F9F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C1D0B-97DD-4EA1-9035-2754339944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87E45-6BD1-4943-B242-F687631F2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94096-B203-43AC-B94F-010CF4DECF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DEED8-0090-4EB7-9D39-3A52FF1AB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E7D70-4B7C-49FC-9E46-8CA79745E3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F32E9-F9F7-4C1F-983A-DF1161F9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E8198-6961-45E4-ADA9-1670A4998A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FB26-586E-40F4-B9DA-65F9340235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95868-7AA0-4E1D-9389-3AED1A136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62DDA-CB76-4911-A3EE-41AC7E12A5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BADCF-480C-456C-96D5-E12AE9F7AB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C899A-6D97-45B2-985B-30A29D8380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05AEF-AA32-42CF-BB54-4EF7C5DE5B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CAB11-DAC0-47B2-B584-8A3B79F5DD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CAF8A-32FD-49BC-AFB3-C570F50E05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9C347-89EC-474D-BA19-B628BF2963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D9DC7-AFF5-4C4F-9F78-FA1F1E8AD2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C7106-4D9F-4CB1-B96D-8FBBB234B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BD4A4-97DB-42B3-BCCC-65718DFA80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F3B3E-F983-452D-9805-59B01A2D26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CADD5-11FF-4733-AF05-C430A139A9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9231C-76A0-4BC7-9B77-EAB024D5D9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A3FFC-2E72-44A4-8B3C-2712602EA9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E95AF-B8C4-4C76-A55D-0800B567AF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7E134-0B6D-4FB2-8604-6A7665E714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77A9F-6A40-4344-831D-092F1EA759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59754-4FF8-43EC-8BEA-058E1BC85C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D1CF2-4AA5-456E-9A20-3148A85D8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0B945-88D2-4861-AD1D-2E7120D25A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96A7D-D4FF-4CEB-A620-C6510B3B92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6FD9F-EC72-4242-8544-DC78044C82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49C44-9B48-4CCF-AFED-D50DDB4826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62D09-50DA-4885-B0D8-826BFA9B3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1152F-2F67-442C-9EB9-2EC32D863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0EB76-16E9-4154-9A31-8667980576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EECF0-9AD0-4C63-93DE-C2E9B2F398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63631-8B00-4B6E-A9B0-9B29764566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1716A-A0DE-45F0-92F2-D6AC4FDA6B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337F1-3A49-4CD8-A18B-FAD68AE408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EB4BD-949E-478A-AA0E-30701BC471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9AD6B-F84F-441D-B82B-3F68127861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9095F-1DBB-45E2-AE5B-F9EB7EFE06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BD974-5599-452F-982A-2A4126C0B7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3E58E-3F63-4E40-A034-7EAC5E0C64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5D521-D903-4DDC-8C96-9B7E548879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дање; собни бицикл; вежбе са теговима; Таи-чи; хидроКТ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ЦИЉ: 20-30 мин, 2-3 пута/недељ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94AFB-D608-4717-BC73-D37156EB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9E420-E517-4D6B-B149-D018276AE6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F29C8-0A40-41DD-AACE-8E7EBCCDD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3E5A8-D086-440D-9EA5-AEB99E74D3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36432-643C-4A50-AC70-77FB0A3CEE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CA013-24A4-4229-91C5-39F90E99A4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A716C-70BA-4205-9BA5-93B0FA606A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20023-8A27-48AD-8DE7-771BD00E1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1DE29-9569-4BD8-B683-FA9503398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A5E17-CCA4-42CB-B2E9-2B67873A80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8F2AD-0DA7-4D6B-9A47-98AB155C2C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A1BE-B866-4FE4-8EF4-061A8CC0C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D8D3-B74A-4FED-B862-40024F9249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6C33C-F802-43CF-8867-E3E3A79617B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BD80-A77A-4788-8E17-549ABF8004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05649-464E-418E-A1AF-2417E29B795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784E-DC19-4349-8E3C-29969904846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9A59-F7A1-4C7E-B609-327C82E868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B03F-6166-42CF-B3A6-B720EA7A215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A36B-4EC3-4BD7-8EFB-A8A319B0C59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FA47-B299-4B11-B700-E1BF3A92190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0DEF-9698-4DE3-9259-DD352F97E74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85A85-C04C-4B57-B5E7-486472CB0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7134-BAE8-4F68-9E30-914BF1CCB1F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BE0884-ABEE-4B22-AE8A-4254E14E72D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FB5A70-CA63-475D-B238-884268A989D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E64EA-7910-4B32-9A69-9159C1AE3AD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9830F-0F72-447D-BBF5-8DB49383603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2BBB56-AE6A-4BFE-9251-364738BED26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2DFD9-F8F9-4572-AA08-5EDDD944325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0732E-F742-4589-ABE7-C415807095B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0E8BB-A1C8-4E39-A39C-FCDA46DD238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2805B-2B3B-4794-938C-1F263884F51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0188D-18FD-4885-AE2F-5E9608152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AB5E-C06C-4801-90E6-0230B76ADCB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D2FF8-7B7D-4ACC-BD2B-580CA8BC52A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49A29-E996-469C-BBB0-A3E96998D9B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D7E3B-9F9F-4C93-BC5F-4049B35331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89A6F8-E4F8-4AFF-9801-5627008788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EE7A3-D338-49D2-AC80-33595CCFBD8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7C033-85B9-48EB-A4B4-6D4F91FC973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5E1FA-5099-403E-894A-5CEC72CDE7B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707E5-8DBE-4158-85EF-2D12E9E9F1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67E29-B12B-4C64-A50B-8763B322BE5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9A35A-F43F-43CB-B848-5B53E754A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617C-118D-4455-AB05-5C6B3ABD096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CDB07-0BF7-4B44-A250-F11C517D194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FDE79-ADC4-4635-A647-BAD26ED7905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02664-1CA9-4AD9-9002-FFA2CDBDCB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1D13-8F17-4C75-9EE8-0CC3C21A5FD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B64F9-A5E0-4445-AD48-80198A83B8A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CA663-7591-4CB2-B4CF-279144A1AFB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218D-1743-4EDF-8386-DAF5CD21E36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96E0-7845-49B8-A204-00DBA26D91F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F042-88C6-4007-9319-9F773FB0342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7D27-A2DA-4F0D-AF7E-994B1477A6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3B9E-ACE4-4CEA-9D03-77445B5CD71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12B3F-9CFA-49AC-ABDD-39A47E939B2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C0BD-A496-434E-8497-93E070F481A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910D-0FCF-445C-AD62-797802929CF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76F77-F7B8-48D4-9858-D32D1470E49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37A6-9007-44F6-8D9E-BD28F0AD7F1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CC9CC9-3CA2-4EF1-85AF-14235F9C134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C8B2B-EBD1-425B-89B4-035A0FA41C8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06E824-8218-46E1-AEA9-164F9023A21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0DBA18-8924-4184-AB1E-21350ABDA02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81707C-892E-4647-933A-C8B6B9F404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5ABF-7BFF-4074-88FC-EEC67397800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74415B-89DA-4245-A12F-E5FE1F8847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E002D-92AD-49B9-AB68-AAD56717D52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7A708B-E411-44B2-9117-076BCE7171B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551BC5-1335-491E-B652-0728140EC3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CF005D-FC0F-4F5A-83A8-9E1F3C2868E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B1C1BC-5470-47DB-9F39-BEF50606A57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5A7DF5-C449-437E-8F26-7FBD7EA0471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166BC-72FE-4374-9E2D-39D8E140698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EC151-5580-4651-AF0A-75C2EEA74F4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222AD-C7B1-4CAF-8DA8-2C5885CA77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CDAE-C460-43AF-8534-CADE28443B0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FCDD4-BBDA-41C6-9CF8-BEAF0024EB0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64BA4-8272-4A7D-AC9B-915C00FBD83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58945-DB54-4F93-86ED-E735E43CEC9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7B5DB-CE2B-44A1-9144-2B79FEEBCAB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48A6B-9123-4DC2-9B75-B762438B0DA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1DA8B-E90D-4DA5-B221-1F7337C8937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E15E9-18D9-4CBD-8BF3-50AC52A82AC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F5855-014D-43FF-9F1A-1A8298B2E52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862AA-618A-45D2-8987-86267EDFAF6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F7C11-D384-4A0A-84EB-2141DA1845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0B32-6704-4E45-9CD7-8E6904C6284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BBFF-5A96-4C8B-A672-FEA714EBE3A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9E73-D20D-4A42-89B4-20D2FC27346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B0C2-0E51-4F8D-8D5E-291E906E93D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4DDBB-B527-43D1-A83B-A415C169931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617B7-12C4-43BE-9667-42F48CC6082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9B07-4704-4E94-924E-301E6931958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F4FE2-2446-4FB0-AE48-79D42E62A23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42F0-65E9-482C-8598-6F5E0F21976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F9917-9EA8-4C5B-A697-B7813F138EE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D1ED-E186-476E-A441-C373483550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9261-4DE4-457E-9A8B-EF8C3473BA4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01F73-8FAF-4E07-BD36-62BF6D7D7DF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BFB9A1-B7DB-4D5D-9A7D-3520212A910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4A3E5F-F51D-41FE-BDB8-171C00BA3F8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856FE3-5007-4DBE-8563-16819B281E3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9066B1-4E64-420D-B311-0B8710EF9EA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E332EA-A018-4B63-B6B6-96021933D91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2F6C7-9C8A-4DD4-8BF0-DFAC74D2F29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3665CF-3B68-46A4-9569-E44FCDF1C04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1D49B-4E7B-4E49-839B-9C617ADD899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123C4B-9083-4841-887D-942D722EB4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30CDD-B16D-4E10-A384-7E7D4D26815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4D7E82-CB72-4AD0-8A01-DC08D36E57A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3A241B-52A3-4DDA-84AB-4F4CD955BF5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88DE83-EB64-458B-88A1-CECBEFCE414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63855-ED91-4BF0-8394-B7F7C19ED10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D2FBC-9456-4D0B-9233-8CE7730AC04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E9DAA-4499-41A2-B097-849FC0C7C16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A96A8-990D-4A63-AC77-1B1928E8F29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B916A-FD86-4A90-9F79-DBB41B2CB2F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51B87-98DD-40DE-8E3E-41B11E45D01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DF123-4718-4269-A65B-2EEE7D749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7693-8BF1-449B-86C6-88E3531FE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4458-FDA4-48EF-8D97-28A7AE26219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1A7376-B395-443E-90DC-C4CFD46F2B9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A00AC-C9D3-4A3B-A27D-AF361F3737D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0B53F-DB87-4654-A02D-65480955FEF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9B401-CF69-4701-8205-78791E29BF3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F0B70-D02A-4DF4-AF0E-8571C7B7410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E94B-C496-420E-A122-D5D0F977A8B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98CB3-E8E4-4688-A47A-A1979F3D37A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6CFF-8CB9-4EC4-BA67-8D6C3E4B51C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BFBA3-F799-4E5A-9185-7EB4562F373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BBF98-2246-485A-B7F7-3C375BC134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7DDB-B783-4B35-B5DB-27A2920ABA1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14BA-4CCF-4814-87AB-68252E62143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C9D39-B0B4-4373-B394-1C0B7AA1E00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DA70-7DC7-4357-A8F1-8D6E9F99969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F3D32-16EE-49CE-AF1E-8AF6B576505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A0EBA-2E64-461E-8EDC-7B0323C05DE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82336-08E9-443A-9D7F-0BB35687397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74AC3-1098-4D2A-A89A-4A0ADAA970E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79D4FD-4ADA-4207-A37E-FF5061A8865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F9C609-FA44-4950-9776-3DC78AE859C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F4E612-CBDE-4C6B-9BEE-C78427D4B8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509F-3CA3-4C9A-A8B9-680B2B82DC7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71A05F-9639-40D5-A16B-4734D186570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216EA-60CE-4152-B17B-ECB6960F653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197BDF-1806-4D47-B018-6920320A6D3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497C34-2671-407F-B0F0-F144F1AC041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DBA489-75AE-4FA8-B919-FDA58B42769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718C9F-CC5E-4276-B3EB-FF015A4CB6F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067707-E230-4689-967A-6061DEAFD4B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681FB7-7D4B-4EB5-8A3B-DFC233DD772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2C00D5-70E5-4D7D-B111-7A1798850DB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0D0ED-1626-40E9-8A97-B36C687793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2ECB-E896-4249-BDCD-035CCEAE996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7B7E8-A3EC-4DFD-A28B-2D51E33E75F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DC2A5-7C0E-4711-9EFE-FA50B6DF548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96E56-C17F-4711-9ACF-4AA78EC4F79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8B101-84AB-4F35-9E84-95FFC4117D0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5CBA5-AE97-405C-BDB8-F4B3BBBCD57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FB7045-0556-4CEB-A171-5CE3B0B9249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F37A7-3533-4209-B2FA-4131821679B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8A6C8-D112-47C8-BAD3-A094218B955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A69F3-8D4C-47E3-B852-568CD920E92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82777-0B19-401B-AE01-C46B8C147C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693F-65CD-4124-BCE8-2079746ABCE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1AEA0-9D45-4A85-8A3F-F39392C7ED7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D500D-6A21-49EF-8477-A98FCC8833F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895CF-1688-4BC9-89D0-9BFA2FC9B1D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51EC8-8885-4F00-B638-F79F7663C49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67746-EFDA-4F53-B8E5-1AC898BD974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ED72E-F5A8-4752-BA8A-7D9931C995D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38897-5747-4766-AA1B-57F6612E25B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D4606-2700-4188-A6A2-EDF88822F3C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F9E6F-9ECB-4157-B193-CC36524CE19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D6872-EDD5-4309-B45C-869E14597C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DE5-9A3D-4820-A3B7-3AEAAB8797A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08AF-DDCB-484C-9766-02061995690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1AFAE-8FF3-4CC6-A010-BD4A5B23787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6B8A1-5659-4326-B925-56506DAF4FF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58218B-467C-4567-A7F1-3A5336C283D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78E047-515A-4083-BECC-288B2CCAAE2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5EBF83-4A74-4C71-8A9E-3B62BA7D046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7AF94F-D609-4D5D-BE63-388C9E9E172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9DD1E2-0FAA-445A-979D-CF92CF1EE4E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845566-4632-4207-9F83-52EB43B21F6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143FB2-C2F1-46FB-B44A-F450EE0733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934-B9CE-4E22-A238-7979E837252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4B17F5-D50B-4CF9-8EAC-B3734A4C760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EA140B-3D3D-463E-A680-BA956B2EB9C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017ABF-0217-4B3B-AA21-4EC4621E24C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BA4C6-6B36-48D1-BC03-D808F7B16FF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E567DC-CDD8-4DDD-9902-11ECFD7CCB6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48FA1B-C25A-4FCF-961F-11A6B527ECB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B3BFD6-26EE-4BE9-BFA7-ADDAA178F57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A89E17-1593-410E-8DFC-BEF6D348D9E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D37E60-D036-430F-A5FA-7B6BA9A4A71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2BF6DC-B685-49FE-976B-4D40A84803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BF3-03BA-47DF-B9E3-424AD2F756B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87F2E-C4DE-46A5-B93F-39130C21061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5A7825-2BCF-4FF9-9FCF-9BA03617D26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7ED14-9992-44D8-B323-9BD1C6CE68C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9C5604-61A3-48FB-B99A-70F1F1176A9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49C1B3-3781-445C-B183-A2CF87471B8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ABFA5-DAA5-4FB0-A6F9-CB0F2173D0F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E89223-5977-4BD6-A682-AAD79194F59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024F3-1184-43C4-B4BF-F79CEBF863D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F1AE7-E260-45AE-8622-C104DD13500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C6E35-2ECF-4034-ABEB-14AE47A41F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0BA-1C9E-40BB-B0AD-78BEDAC1507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BD4C6-1768-4307-88C7-261A94DFD37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54EF3-5932-48A8-B1B3-56B017E0467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E206F-5840-4B49-8D43-46B52BC3CE9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3C080-6310-4E3C-A978-75EA44C5405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0CA54-C720-484B-9007-DA195AC1EA5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859FE-600E-4BB5-9157-AFB505390C3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EBAAD-9960-4148-87A3-E96879514DA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0CB1F-6A0A-45C3-A019-B4AA03C9DAD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E7033-EDCF-43BA-AE40-32A4BC8028C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6E6E8-072A-4851-A750-48D8FC03B0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6E2-3E60-445D-95E5-99ECA049EBF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02D81-FEAE-4C11-B551-3411D061372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14150-B1B1-4FF0-937C-02034FAD0A4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F208D-FD89-4E9C-AED3-B49642CA022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C7712-ACDE-4991-A49A-C11D83D639A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9282E-3176-4ED9-B64F-F2F3F17F936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79BE9-AFA6-4F7F-8A88-2AA7B6810C8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73B4C-B491-44CA-99FE-33F38CA0144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80E4B-A5FF-42D1-95C3-086BDA59EE9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8505E-0177-465C-AC1D-CEBA4B1D831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837F3-4CF4-4A10-9E2F-03575AD5F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DD35-EF6F-4B32-BBCB-F69453C039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990-5504-4A56-B5F8-4B2A3195809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09A86-89B9-49BC-9E98-1EB03F342D3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D1266C-0E57-4164-B66B-FC2E7B7C1CA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C5187E-DC5D-4F20-BB16-18DF19F9408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71B3AA-4AB2-40D1-BA68-865F33CC1FA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973B12-5E08-4EE2-82DD-95CF4CAEE8A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DC9BC1-DA43-403D-9C37-1EAA7AC59EF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1DF44-5239-4D41-AF89-B2799E95E34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621D05-673A-4A50-A40A-3A2B0FF5521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548F37-C408-4519-A0AC-6313B26A05E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D29AF2-A52B-4F44-9757-9216B3C832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3DA-C404-4EEF-9755-D08B38EEE3E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04D622-B1C2-4815-B866-93B216DC26D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8EA9B1-ADFB-418B-AA9B-673C483657E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1F85B8-B7C1-4863-8B38-5327FD13688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B18D4-C8F1-409D-BA3B-134B40D9E3AD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8028C-0FA2-458D-B5B2-90CFFE53C01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28971-0A35-4CD1-9F40-CEAD6CC62E1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964B6-823A-4D54-AEC6-FB40AECEF74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61076-624C-4291-8EAE-50D77BFFF91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9B109-DAAF-4404-A3C2-7970CCFE85A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BE403-ED37-425C-B33F-AF04EE4290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EA6-CF3F-4191-B273-E49E57AABFD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0D9C0-B902-41A3-A4A2-D834C90BF1E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3791C-D4E1-425C-BD7F-E5B4CAF0E50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424AA-0C1E-474B-B023-CD600157794A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0D9B8-834A-473D-87CA-5DA500AB74F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10C46-6317-43D3-9541-16D93D092BB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E035D-EA41-4044-9FF2-AB520949B167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15382-030A-47A9-9B36-5A0E487F5743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8BF8E-39DF-4D08-867C-68A7EB0A94D2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9ABFD-D399-4F35-9F40-1C8AA378269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4DA898-B8D9-45D7-B482-0EB6C3BAF1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0A5-3D14-4E00-AEEF-8949B72C6C4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455D3-E7A2-4D37-8205-DDE709C3E4D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19447-1417-4C5F-9CEF-53E792731F91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1C89C-DF28-40FA-8964-871A44D50DF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254CF-FBFD-471F-8135-5AD1E61351A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D849F-33B6-4C67-B52B-55680792CED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9A365-2C02-44A8-9117-3DCBA8873736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E66EE-EDB7-4496-925A-95ED877DD27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599FE6-02D7-42DB-9B41-550FF1BF980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703AFF-197C-46A5-9225-2897277827C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F1F59D-F205-4B3E-825C-3454753EB0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809-F05D-4552-87FC-DFAD23FC3973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B64E3-796E-4A22-B3A6-D5377184DA4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22264D-440F-44E8-803E-7C985FA106D2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06C512-1BA1-4153-B939-8FA87CE8202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FD62A4-39C1-4285-9F0F-9831B31C8EA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CA7DB-DB7F-4A13-9829-D43B15D89951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A1718-3705-4C44-A5BD-FD2207C0BAD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DBE615-BC0B-47CB-84FD-9C6F9A002B5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4F2E30-0C41-4201-BE2D-903EA2B5583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E163C3-DD51-4093-A761-B02C75F6333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EA77B-C4DC-4305-8531-FB0137C7EC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0E9-F882-4473-8517-4343244D79CF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718C2-5B4E-4946-80B4-96EB32C2754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C9EC3-8440-47A1-A17A-7D8AB0AB4B3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60F20-C067-4F02-BF29-B963329379C9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0D4B8-A44E-41EF-AD4F-67E65CD1AC4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16DB5-ADB2-47DB-BFC8-876B06265DCB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02002-CF8D-4FFC-A6A8-16B75952CA5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60B12-96B0-4D7E-9A57-73D220EBE85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068F0-DAD0-48F0-B9C9-16986D1C2BA9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6F1D2-2161-41EE-8D37-AF6DB7B9ECE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DAEAB-419B-4BC7-A09C-3C3313D0A4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E1B-13E3-4029-AF07-EC92BAB2D7C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F6673-C4AC-40FA-966F-8F23085009D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92B093-1282-483D-8AAB-13FB8A69E15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770174-C801-4265-A102-A90BB253CF00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F23B2F-246D-447C-9372-A748CC62E36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15CA90-B57F-46EF-A715-B799C6C998D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742205-2677-4DFB-97D6-1BA354534AE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25DA7E-C4E5-4618-B1E7-A6ABF2BD5E5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342D70-4AD3-41BE-8FD1-3852B687E3E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EB148F-9A7D-45FD-848B-E1EE51F78033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CB0D86-316A-4CBC-BCD3-05DBAF9A05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7E809-4A66-4976-BB5D-DDAAA11BF6A2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475FAB-F65A-4034-9B21-21A8354BF26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975280-792D-41A9-99CA-C4786348455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1A85CE-0904-4B2F-BC2D-99A16400BAD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45B736-389E-4434-A93D-704565651461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B619E3-E799-4231-81FD-2EDCDDB74FF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B0CEAB-45E5-464F-8D99-31BC49DB4FE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989E04-A7B8-45FF-8651-F1CEEC24CB0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49C451-2A4F-4FFC-B770-798062C2168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6DA5BA-FBA6-4205-810E-C064824C0FBB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C2D165-FE57-4006-8B17-F400F13AB9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3A6B3-D7ED-4DA4-BBFE-579C41E198F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AF0645-8137-4810-B597-70C93147ED3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CA57D5-EE0C-4BA7-A831-B595B770C83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5407F5-189D-43F3-9A78-7C2C9980DEC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0154D3-E016-45B1-BFAD-5A971F2CF35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3F94F5-AB71-43DA-B9DC-200AAF8340D2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6554B-269D-4815-AC0E-8B94455B63E5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4DD9F-470E-405F-9BE5-2E84862FF51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1AE9D-ACC9-4913-97E7-38CF3D01456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0F23E-15ED-4AEB-8359-E5C6A28B5D40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8B621-529B-4CBB-B65D-C45F7721D6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B0A24-B336-4E48-9FA8-283912BFF53F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B78E2-9A93-4D8C-AF26-6C6685C985B8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2AB68-540C-42D5-BA72-0D5CB68220C1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4078B-F418-4621-95D9-8C744FDF8910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DD9C5-D292-48B9-AC3C-17D41FB824A8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837FF-F821-4FC5-A15B-878CB40B9157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67D45-CDBE-45A9-B371-20D39AB2E58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A385-A300-45BF-A2CE-41F8447187F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0A078-4889-4E12-B6AD-308C0ED79DA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537EC-9267-4F5D-BE82-EEC6F3B238F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CE747-60D0-45C0-83C9-64BC7D2FD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333B-D785-4B77-8697-B1A23DAEEE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BABB8-1611-4CD0-BE86-F688A03B37E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B2D4B-F74D-4272-8BA0-30CC227FB7D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8687A-EFA1-4AD0-8E81-48D4589B26B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B683A-74FE-4E83-B06D-54073AA7D015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08B17-3AEC-4FCC-92ED-0E0A0DACBE32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96855-C535-4C81-B43C-A8D1BE743CB0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62ACD7-D2EF-4BD7-8A56-57948D5BC597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21FB1-EA2A-499F-A15F-125B3594340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ED9EF-891F-416B-AD69-C53649F16341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DCB62-E9BB-4404-8998-513DF2C6B3A2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AD2429-1977-4F85-88C5-F929396B77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CD4C6-B40E-4A2A-9B0B-8FDDC9247CA3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408AB9-3633-44F9-A60B-ECBAE695E66E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EC6FB0-363D-43DB-8F53-E9FA842A8C61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4A9E31-A5DF-4761-AA9C-DBCAB78FE5A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2809A1-C49D-4759-A4D0-B3F72353DC0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5AFA6B-93C1-44F5-B31C-9534CC6AAE1C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0B71B7-A8E1-407C-BE78-5654B0805DF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6E289D-8696-44DD-A85F-8031C51DC276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3FC90B-1BE5-4563-B0F9-E209DC25744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320A87-12E7-4B78-B722-025F6304156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6448CD-6332-4CC0-999F-51B02E4ED3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AD4AA-3CB4-4921-AD46-FA9289BC8749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6A1E99-5208-451E-8B8F-A7810A53DC46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B4547-93F3-46AC-BB5F-621325CF9128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0CB00-5AF1-4A9C-9C24-DEC03E44F9A1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87A3B-5E9B-4392-933A-2F42ED465A1C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14439-0613-4953-BC6F-7C0F38109E99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37B85-9C11-4812-A74E-BFE4081E7DFC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C72E2-6F2B-4C66-ADBD-B013D1825903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0BAB7-F798-4441-8622-A673A4E388F9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61BCD-DE58-4247-B11C-100C228BB0FF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5FB3C-A9FC-479B-835F-CA74372EB9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2FBEA-9F08-4AD7-9250-64CBA02772FC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FBA0E-3CC2-47CB-A32D-9BCF26551BD7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6443D-A9F4-45FF-9895-0DC4C497A1F9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88A8E-4994-462C-A538-2E7869794BD3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A99DE8-5FE7-41C4-8F9D-7AA9379CFB9F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CA8F89-64FF-44BE-B574-5B5063B479A9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A71B8D-3F4B-4DED-9ED8-D742E092314B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AAE978-8A22-4D16-BB5F-0225105658FD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1DF4D7-3B45-4A4B-83C1-5D8F45D1ECD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1AC0E3-C09B-4FCC-88DF-A6EA9E097A9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950337-E3AC-4AB2-9D47-4EF73CD1C6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C7F6A-E6D4-43ED-8BA4-5859BB67DFBD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1D02D0-C9D5-46B6-AA61-41F77F21734A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846709-8FA3-4157-A44E-20F658C933CC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9D2A9D-CDAF-4084-B256-445AD9E0FA3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552753-F41E-43C0-9BB9-CBA119C3C76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E50D55-AA2D-4C1D-A9FC-C5EE8DF217B2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586DC1-BD71-4739-B077-A4132E67F939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A3E748-8E18-41D4-91C4-2E70CAA8917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BCF5BD-E8F6-4E75-9771-945024E036BC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2545EA-A188-483C-A46A-1625E39E4FB3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5477E3-037C-4BFA-8C95-91A6DF8BF3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3BBFD-C58B-4B1C-BE09-3E5C01ADDD6E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4C0B2A-AAA1-4A6B-9C0F-58BB908AEB88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C36505-0EC7-472B-AC25-2C69A85ECA7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DE9A1F-A833-4089-B7FB-5C93284B6B30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231BF3-0D2B-4224-AB45-40CB2A3A5D2B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C6C247-3A00-4971-A0D6-4A44FC93EE4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0AD504-F91F-421C-B148-404A2EA71D6D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C2158C-92EF-4878-942B-33AC80785878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798B7-EFAB-4FAD-8368-3B9360ABFB93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F512D-B3E9-4C4E-B9AC-E0C7BBC29B2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91A6E-74EB-468C-AD5E-6446A96419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2A19F-4B6A-4112-9F24-4B766DBC3CD9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8BB5C-A593-4F36-B22C-6A03DA25B724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84400-FA65-49E5-99D6-2BC206B69997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29B4B-5A9B-4DB2-82DF-252A2501092E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51320-40BC-40AE-B569-190E71F12245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9ECE6-C969-4BED-AB52-A3A43001FF44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D8D4A-7770-42F4-9985-4C4B026B8AA6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56A83-8046-4E95-B2DD-EE1E9BFCD2E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9B9378-AC50-49FE-A6BF-927E8555A07A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B091E-C5D2-4813-9F13-5D3CC652486D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F57757-B93C-473F-8AC4-16B41FA4B4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4B9A5-638B-4834-A1C1-FC3E5E62904A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FF1D60-1F24-460B-B2AD-76BF9F744009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2609D4-FF9D-4DF3-AB2C-DC56ACAF088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EB9BC1-A6AD-4DF2-89BB-34B159AD3535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D420E2-111D-42DF-B992-66AC098B59F7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B7A58C-3F32-431D-84B5-81B14E8F4BD5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BB378E-6B2A-4F46-88B5-D935E252660D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C8C88E-EF99-469A-A482-BBB9FACB7A3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4405C2-9A3D-4D3C-8745-C92DE01D81BB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045234-D407-45AB-8F7F-D2BA99C8F892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ED4D00-1559-4102-A836-410D7D8407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9818C-C9C1-4CE2-B7D6-476E611072B7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2D664D-2EF4-4A69-B9DF-A97628BA159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D26958-0F54-4FA7-9DD3-00DFE2894217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B2AB05-A813-47D1-80AC-C275F776D3BC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596EA8-4642-4533-9CB7-F739A40EB939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64A017-B417-4C52-AE9F-94AC739F2D96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2BBC30-9821-4AA5-AED4-09446F02F98F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0ADB45-768D-4D1F-A0F7-F210071C5351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45C3B2-F03E-46B4-B637-B2B424F1EC27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44FF11-95D1-40E9-8B6E-ED0F81A13412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BC29FD-45D3-4425-BE16-4FE00052B2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85347-A8BD-488E-943C-382BBF19735C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2262D5-55F4-4D55-A5EC-2C08649D030E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536ADB-123D-4E1C-8283-6891B9795876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BD7968-B3EC-4635-BA26-14267F7AB7A9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25F1C-C3D8-4CC5-B181-DD6040108FFE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A1AC2-2DE7-4552-8A62-6C1C3E43606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92B2E-9A4C-4C08-B119-ADDA196FBDE6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B8D83-7A5E-44FC-ADD1-ED0BDE61FB1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6F5DB-2AB7-4F5C-9640-CCF33B68F8A4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C098F-6EA3-4AAF-B5ED-ED7F38CC0B02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F51AA-F9EF-4921-A863-A7A407C27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FD65-F88D-478D-8A05-4AFCAD03A6C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F6A9C-2174-46B0-96FD-30CCFC83F6A8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6AC3D-F0A8-444E-BEBC-17E32C6AFE9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B81D3-1E7A-4E85-8EB9-EFE26669BA19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03497D-EA7E-4D66-8442-2713B3BE1698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551A4-EA0B-4285-8CDB-BB6EFF158579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F7363-036F-4465-977F-574E5068EB0B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8E23D2-D8AA-4EE4-A61E-9ACFDDD7D1AD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DF9943-BFA8-45D6-BC00-92D7D1975040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102F93-918D-49B3-AA62-D77FA50A42FD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FA431A-29C6-4CFE-A36F-0C59AD19DD1F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43A20E-D4FD-440B-ADBB-A3C916ABF1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5A478-7C6D-4A83-8FB6-29806609A798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2AEC9D-FBE4-408B-BA02-34B073046F96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090B53-5E37-4D74-86EA-CCC0E02BF695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8F1FA1-319D-4CE7-A801-95663BBAE2CD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E29FFA-07E9-4271-9BD6-11098732B92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735713-28E9-4286-9E74-46162FED6C94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410726-07B9-4A50-A99E-E3C90880E318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2D356D-8744-4A72-AC6F-1F59B8C5EE63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D99F2A-9CAF-45E7-B3FE-750C4C780540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865129-ED0A-44C5-8747-18B1FC4CBA92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D3F399-68F3-4E5D-9318-DFF621E9FFA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575D3-6C10-47B3-91EE-15E825EAA427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0FACA9-6198-4573-91CC-94B64C492A21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1083DF-0345-4908-A7AF-9ABAF5C4D1CD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9EEB48-25D3-417D-8353-2DB1FC7A1B04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244988-C25E-421D-9264-9A3733A984D0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24817F-A3E7-4BD0-88F7-48A5A65DD45A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870C40-FE42-41C4-9C1C-8F009CA8E6F8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F828E9-20EF-400E-844C-9D4AF7540119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CD9532-7655-48CD-92E1-E06895168710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2879D9-83BB-4D73-93D6-C03DB6715EE4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B17F8-5B2C-4AB2-BD45-BC00600BFA7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594BF-5858-441A-B422-A067CD8136F0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40F6E-2D3E-4FB6-842E-B4E33827B45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F1030-DB38-4C4A-A9EF-3D0F774334D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2403E-AF15-44CC-B24E-60F1A2575A8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727BE-5EF6-41D8-B4DF-F0A570632671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CD157-D81C-4D42-95CC-6BC100942E19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77E15F-5F8B-4C37-BF0A-25CAF0FD00A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F78CB-18C9-49A1-9543-272D891C2FE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66EC6-06E8-4F02-8E93-3CAC077A76B9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A5774-2853-47EE-BFE4-DF5AC25FC848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45E83-409E-4E45-9170-369203033F6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CD8B3-AF43-4DAE-A582-FD0E4152D597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23963-CDE6-4A4F-A3E5-055560AD4E0C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EE2DCF-0BD4-4A94-BFBA-4DA5C2CEE078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50F807-CA3F-47D9-8F2A-141399E8694B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076E8B-AD46-463F-A3D4-C5A3FD56717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832B49-0800-458F-85C1-5C38103B8C6C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D863AB-8D64-4B9D-B59B-B96B6D0743C4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D0B1FD-9A83-48F3-A31A-903F9C1B83A1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73619B-81B4-4162-B47F-BF9DC544F16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93E2D0-5A61-498B-860E-F13A79B0083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E1D8AA-852A-4914-8EE1-AC9E576D046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B236-773A-40AB-A8F2-E5C5C6C0BCAF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5206DC-DC82-4D1A-A177-CCECA647418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745895-ABBF-4573-B44B-7DC00E3CB7B0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46FC03-353D-4711-B99B-82B17C6DB2D6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815542-D91C-471F-8384-3E646E833C4D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28BDC6-75FB-4D83-BCE8-7834D1B3C1A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353CE7-24DE-403E-979A-329850DA1703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4968F4-DD06-43F5-8E2E-545EAAE065A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60D44D-4892-421B-95F9-DE1EA98B50E8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F781DC-C979-4752-BE89-0B6461E5173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6B1242-8E92-4C0F-B6F1-48D3828CE4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2DB87-195D-48A0-9307-E900DAB5A53E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A3C0F1-D13A-49AE-816F-E902D7FC32FD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484A2C-9E8F-44FD-9DCA-D1E74B9B3B80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D6CE5F-FFFD-49D7-87F1-145025A66591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812756-14B3-4FFB-8FF3-2D385C4690C7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6E68A8-46DF-4644-BB0D-6BBE26056167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8D6AA-554E-45ED-AD7A-B4594B9DFF52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84091-C16A-4A6C-812F-663CAFB8D8BB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6C6D6-6186-4B2D-BF69-393EFD419348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CE0D9-1623-4B2A-AE32-8B83D093127D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3987F-70FC-40E6-888C-E1C0F36FF6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1CCD7-3275-4D0B-BC7D-E02CCEBF1454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0DE17-2FBA-41A2-88B2-342D0212C000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502D0-D41C-4837-BB1B-745AFEEA6DED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679FD-2067-4834-979B-A410F14F005B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7A4DB-A895-4BB0-9579-CE2C3A9B5345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95CF3-211E-4AEC-8399-727DD75348A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AAB894-6922-4BCF-A08A-2B96A366E35A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53ABE-5789-4723-BEC0-CE284E4559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1741B-CB6E-4407-AE31-7120C9AFB35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E24D4-2775-4835-B6B5-E958A83EF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4EB8-D2DE-4C6D-9819-DEE3314789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25F30-7A3F-466A-8015-4439FF7A4D5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0642-8FC0-4611-AF4A-2C31979C1E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F7F2-BA3C-4953-97D1-CE161BB888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1D05-546A-4658-B048-22E903E3171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4DB7-9B32-496B-BA1B-1DE46E4E04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25AB-3FB4-45D9-9F6F-0301FA73B60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1495-454E-4F23-B0FF-4611BAE5188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7F58-2D82-41A0-8D56-DD2FBCE5DCE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DE1B-4E24-4E1C-8BCA-0BA0762AC62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F7A9-AE4E-4CDF-B601-E381B2CB2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25C2-25C8-4E8D-B407-5E109247331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BF9-3A05-4CEF-84DD-5A2301212F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1848-8433-4E30-9135-1C31B7CCD5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176D-2452-4807-B7AF-2D2D0C0CACD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98766-28F5-4EEA-8DD5-26232D1C865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51FFE-7022-4D01-89B9-7065D21380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9D9B4-3B9D-44E8-B605-512B8833E6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BA9088-B25D-4471-90B2-8852720C11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9D5E6-DCB6-47BE-AAB3-C861CA0BEC8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F07D9-66CE-4028-95A5-2EF36F4B6D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D3587-3D6C-4E2F-BBC4-CDC428067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491E-9768-426C-98C8-90C6C628CC1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1895EE-87AF-45C8-8ACC-02112B7F202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5B89C-974E-4DD0-914B-0610D843E60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622039-A25B-47D6-B236-142158D7A39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19BB4-192B-46D7-98BE-B93C62692B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3541C-82A3-42A3-90BE-32F6B11D63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F833F-34C1-4D50-A8BC-055C417FADC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D63BA-93D7-46EF-9E04-E9F6EF19A3B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0EDE8-FAEC-4E85-8EA0-5C62121F6CF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8381C-6C96-4A34-AFE8-5C8B9B4B3AE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E8C5A-431F-4578-8916-45504DBE0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09B1-BF1F-49DC-A18B-F28504A74BC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5CE1A-F6CE-489D-A9CC-52E15B2BB84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7872F-F8EE-465C-B94D-0C7602E5C72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99595-B636-4C1B-9D20-FEB673F937F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50E6A-93B9-49C1-953D-3C1F1C533DB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1007E-5FBA-411C-9E38-5628310B33F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C3D3D-0E4E-4947-8706-75C96E2544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15509-7E72-467D-8FDB-76CA0D028C5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E6B7-3215-4F7E-8D9E-D23ED51DB0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C88A-C071-418B-BBD3-81C178DF26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76B0-DCD9-4F59-9FB4-26D77EC58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2A915-D07E-436B-9905-C0E416838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21311-87F4-4FB4-A149-93D44CC66FF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DD204-ABC1-4B8E-B4C9-56F18B1F876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23380-8849-4055-9258-0839343FA04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A46C5-8C55-4B4E-9E8E-053BC624D96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A0935-FB53-48E8-BD0D-E48B141B33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1939D-FD6C-451E-B996-ACDF940134B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15EF5-1DF1-4DDC-B20D-E721A8EAAD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F269B-3A97-4AFB-95FB-FE7B3E504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5FB8F-DE11-4E24-A148-AA1684022A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79DA3-3149-49EB-A323-F15ADCBB59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8EBFC-8524-45FA-8675-1A3CBAE0D6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3D68C-3E8F-4225-9058-237417958D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87D95-9015-4D18-A22E-B28DA6E698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5A0DB-4C77-4C38-9F36-7557BC8611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7399F-0544-4673-B4CD-82D72CB8A5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3343D-D952-4509-AED9-19BC5A5E46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FF77C-8F80-43F9-A528-16870C6E3E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2FE7D-5C5B-43BE-96A3-A57110D841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5CD73-FD32-411A-8732-68D95C1118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D7C7C-815D-41C0-8A6C-A02090809C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70A3D-9072-44A3-87B8-0C75E04F4C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FC4A1-CE75-4328-AFB3-F7C1D894BC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B6C51-5BC5-4AA5-8FBE-D40436FF8A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985EF-285C-4081-88D0-9B6B19CB8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5EB47-3E30-4F9B-AF86-CE0BD45404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DB019-843A-473F-9F42-6506B33663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60015-C148-4E0B-86B6-CDAE94743A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79CD0-A2C4-41E3-A63C-42AFC61489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AC0F8-C83F-4A45-9634-DBE9C0D2FD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1FA7A-E102-4514-A4C6-F3A5952C6B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F3497-044B-4318-9325-F8AD362E4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F359A-11A6-4980-BBAA-AFA1CF59B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C06AC-5C3F-40DF-A656-079D01343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3EE00-8180-4C41-841E-A6227B90F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598E1-8409-42BA-97C1-70D104FD9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C75AF-BD1C-45A0-85D2-40C7BE0DC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C5643-3BAF-4889-88BE-6EAFD5530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BEE91-0795-4BA2-A38A-16FAA16B1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1A322-5E11-4702-8CEA-18D5C2684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FD226-7128-40C4-8835-CE24B456B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74FA5-B252-4AF4-A3EF-6D887FD3B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2E9D0-05C9-4688-AF2F-CC31FEC30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A4C18-1F86-4057-9083-1F6CC22C888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648C-8DBE-4AA7-B23C-80009E62C43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7EF26-7AE2-41A3-8EA3-E449B7D2F07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5FC93-72B6-4F45-8FC3-943F690ABE3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8D0C7-44B6-47E0-AB1D-86DF1CEA38E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Picture 1" descr=""/>
          <p:cNvPicPr/>
          <p:nvPr/>
        </p:nvPicPr>
        <p:blipFill>
          <a:blip r:embed="rId1"/>
          <a:stretch/>
        </p:blipFill>
        <p:spPr>
          <a:xfrm>
            <a:off x="406440" y="420840"/>
            <a:ext cx="8280360" cy="6129360"/>
          </a:xfrm>
          <a:prstGeom prst="rect">
            <a:avLst/>
          </a:prstGeom>
          <a:ln w="0">
            <a:noFill/>
          </a:ln>
        </p:spPr>
      </p:pic>
      <p:sp>
        <p:nvSpPr>
          <p:cNvPr id="1986" name="Text Box 2"/>
          <p:cNvSpPr/>
          <p:nvPr/>
        </p:nvSpPr>
        <p:spPr>
          <a:xfrm>
            <a:off x="682560" y="38577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611280" y="1268280"/>
            <a:ext cx="7915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DICINE AND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C499D-26FE-48F9-B879-B250C6AA4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General recommendations for physical tra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 Box 2"/>
          <p:cNvSpPr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ctivity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50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 min weekl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optimally 3-4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 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art with </a:t>
            </a: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</a:rPr>
              <a:t>50%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maximum physical load or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nd increase gradually 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o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nergy consumption from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000-2000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Kcal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dequate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raining dos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breathing rate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6-9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сardiac </a:t>
            </a:r>
            <a:r>
              <a:rPr b="1" lang="el-GR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γ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not over than 10-12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systolic blood pressur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40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mH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DF86C-A585-4514-A01E-EBF002B67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Text Box 1"/>
          <p:cNvSpPr/>
          <p:nvPr/>
        </p:nvSpPr>
        <p:spPr>
          <a:xfrm>
            <a:off x="250920" y="125280"/>
            <a:ext cx="817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habilitation of patients withacute myocardial infar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 Box 2"/>
          <p:cNvSpPr/>
          <p:nvPr/>
        </p:nvSpPr>
        <p:spPr>
          <a:xfrm>
            <a:off x="468360" y="1484280"/>
            <a:ext cx="8207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1951 a new era in cardiovasclar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 then it was believed that after a myocardial infarction а patient needed absolute rest in duration of at least 6 weeks (it takes 6 weeks for a fibrotic scar to form at the site of infar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believed that physical activity in the early phase after the acute myocardial infarction may cause dilation, or formation of a ventricular aneurysm or heart rup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331F-14CE-4EB2-BBE6-8E757F0D5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Text Box 1"/>
          <p:cNvSpPr/>
          <p:nvPr/>
        </p:nvSpPr>
        <p:spPr>
          <a:xfrm>
            <a:off x="250920" y="404640"/>
            <a:ext cx="86421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iteria for starting the rehabiliation pro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 Box 2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signs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u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hyth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mboembo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D032B-C5E6-4AF7-85CF-C8EB1A1B8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zyme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crease of CPK level is important for the beginning of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94349-E289-4FC4-A887-00612FF94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1" name="Group 4"/>
          <p:cNvGrpSpPr/>
          <p:nvPr/>
        </p:nvGrpSpPr>
        <p:grpSpPr>
          <a:xfrm>
            <a:off x="900000" y="1628640"/>
            <a:ext cx="7328160" cy="3629160"/>
            <a:chOff x="900000" y="1628640"/>
            <a:chExt cx="7328160" cy="3629160"/>
          </a:xfrm>
        </p:grpSpPr>
        <p:sp>
          <p:nvSpPr>
            <p:cNvPr id="2072" name="Rectangle 5"/>
            <p:cNvSpPr/>
            <p:nvPr/>
          </p:nvSpPr>
          <p:spPr>
            <a:xfrm>
              <a:off x="900000" y="1628640"/>
              <a:ext cx="182052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ZY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Rectangle 6"/>
            <p:cNvSpPr/>
            <p:nvPr/>
          </p:nvSpPr>
          <p:spPr>
            <a:xfrm>
              <a:off x="27345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FTER THE ONSET OF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Rectangle 7"/>
            <p:cNvSpPr/>
            <p:nvPr/>
          </p:nvSpPr>
          <p:spPr>
            <a:xfrm>
              <a:off x="45633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x 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Rectangle 8"/>
            <p:cNvSpPr/>
            <p:nvPr/>
          </p:nvSpPr>
          <p:spPr>
            <a:xfrm>
              <a:off x="639324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RMALIZATION AFTER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Rectangle 9"/>
            <p:cNvSpPr/>
            <p:nvPr/>
          </p:nvSpPr>
          <p:spPr>
            <a:xfrm>
              <a:off x="900000" y="2926800"/>
              <a:ext cx="182052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P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Rectangle 10"/>
            <p:cNvSpPr/>
            <p:nvPr/>
          </p:nvSpPr>
          <p:spPr>
            <a:xfrm>
              <a:off x="27345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Rectangle 11"/>
            <p:cNvSpPr/>
            <p:nvPr/>
          </p:nvSpPr>
          <p:spPr>
            <a:xfrm>
              <a:off x="45633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after 24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Rectangle 12"/>
            <p:cNvSpPr/>
            <p:nvPr/>
          </p:nvSpPr>
          <p:spPr>
            <a:xfrm>
              <a:off x="639324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Rectangle 13"/>
            <p:cNvSpPr/>
            <p:nvPr/>
          </p:nvSpPr>
          <p:spPr>
            <a:xfrm>
              <a:off x="900000" y="3821760"/>
              <a:ext cx="182052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T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Rectangle 14"/>
            <p:cNvSpPr/>
            <p:nvPr/>
          </p:nvSpPr>
          <p:spPr>
            <a:xfrm>
              <a:off x="27345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2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Rectangle 15"/>
            <p:cNvSpPr/>
            <p:nvPr/>
          </p:nvSpPr>
          <p:spPr>
            <a:xfrm>
              <a:off x="45633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-3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Rectangle 16"/>
            <p:cNvSpPr/>
            <p:nvPr/>
          </p:nvSpPr>
          <p:spPr>
            <a:xfrm>
              <a:off x="639324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Rectangle 17"/>
            <p:cNvSpPr/>
            <p:nvPr/>
          </p:nvSpPr>
          <p:spPr>
            <a:xfrm>
              <a:off x="900000" y="4348800"/>
              <a:ext cx="182052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Rectangle 18"/>
            <p:cNvSpPr/>
            <p:nvPr/>
          </p:nvSpPr>
          <p:spPr>
            <a:xfrm>
              <a:off x="27345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4-48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Rectangle 19"/>
            <p:cNvSpPr/>
            <p:nvPr/>
          </p:nvSpPr>
          <p:spPr>
            <a:xfrm>
              <a:off x="45633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5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Rectangle 20"/>
            <p:cNvSpPr/>
            <p:nvPr/>
          </p:nvSpPr>
          <p:spPr>
            <a:xfrm>
              <a:off x="639324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21"/>
            <p:cNvSpPr/>
            <p:nvPr/>
          </p:nvSpPr>
          <p:spPr>
            <a:xfrm>
              <a:off x="27345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22"/>
            <p:cNvSpPr/>
            <p:nvPr/>
          </p:nvSpPr>
          <p:spPr>
            <a:xfrm>
              <a:off x="45633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23"/>
            <p:cNvSpPr/>
            <p:nvPr/>
          </p:nvSpPr>
          <p:spPr>
            <a:xfrm>
              <a:off x="639324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24"/>
            <p:cNvSpPr/>
            <p:nvPr/>
          </p:nvSpPr>
          <p:spPr>
            <a:xfrm>
              <a:off x="900000" y="2926800"/>
              <a:ext cx="7312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25"/>
            <p:cNvSpPr/>
            <p:nvPr/>
          </p:nvSpPr>
          <p:spPr>
            <a:xfrm>
              <a:off x="900000" y="382176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26"/>
            <p:cNvSpPr/>
            <p:nvPr/>
          </p:nvSpPr>
          <p:spPr>
            <a:xfrm>
              <a:off x="900000" y="4348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27"/>
            <p:cNvSpPr/>
            <p:nvPr/>
          </p:nvSpPr>
          <p:spPr>
            <a:xfrm>
              <a:off x="90000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Line 28"/>
            <p:cNvSpPr/>
            <p:nvPr/>
          </p:nvSpPr>
          <p:spPr>
            <a:xfrm>
              <a:off x="82281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29"/>
            <p:cNvSpPr/>
            <p:nvPr/>
          </p:nvSpPr>
          <p:spPr>
            <a:xfrm>
              <a:off x="900000" y="162864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0"/>
            <p:cNvSpPr/>
            <p:nvPr/>
          </p:nvSpPr>
          <p:spPr>
            <a:xfrm>
              <a:off x="900000" y="5257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ameters which indicate the presence of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 Box 2"/>
          <p:cNvSpPr/>
          <p:nvPr/>
        </p:nvSpPr>
        <p:spPr>
          <a:xfrm>
            <a:off x="560520" y="1484280"/>
            <a:ext cx="8218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 Duration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nginal pa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than 30 min (pain can be manifested in the precordium, jaw, shoulder, neck, fingers, abdomen, left arm tingling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CG chan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 elevation/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&gt;1-2 mm, pathological Q-wave and negative T-wav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osit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iohumoral syndrome of  myocardial necr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creased level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B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r in bl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 elevation 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 is at least 2 times the upper limit of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41B2F-B17B-4737-B720-B78427F2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 for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 Box 2"/>
          <p:cNvSpPr/>
          <p:nvPr/>
        </p:nvSpPr>
        <p:spPr>
          <a:xfrm>
            <a:off x="468360" y="1484280"/>
            <a:ext cx="8496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ENER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0/1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90/6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ach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2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rad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5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ebric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38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ndergoing process of receiving a blood or plasma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79A55-8F85-4ACD-B098-95E5EA6AC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ardiac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stable angina pector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insufficiency (decompensat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rhythm disorder (fibrilation, atrial or ventricular flutter, ventricular tachicardia, frequent and associated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 – ventricular extrasysto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 syndrome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) etc;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a single 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of up to 5-6/m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llow rehabili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ivity disorders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ck sinus syndrome,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and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, bundle of His block  - bifascicular block);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lock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I degre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oes not represent a contraindication for K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77CE3-8F19-4FD7-85D9-5E115AC1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 Box 2"/>
          <p:cNvSpPr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myocarditis and pericard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olera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еrgometric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50 W, with occurrence of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or elevation greater than 2 mm or clinical picture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nz-Me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gina pecto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in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rombophlebit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extremities or thrombosis within the cardiac cavity (thrombophlebitis and phlebothrombosis of the extremities are contraindications for КТh,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itioning and mild manual ma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applied for lymph drainage; When applying a massage, it is necessary to use fibrinolytic ointments, such as heparin cream; alcohol compresses are also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29506-D68E-4179-A7D3-985E92EB8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 Box 2"/>
          <p:cNvSpPr/>
          <p:nvPr/>
        </p:nvSpPr>
        <p:spPr>
          <a:xfrm>
            <a:off x="468360" y="1484280"/>
            <a:ext cx="83516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-findings which indicate the increase of the left ventricle by more than 6 mm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postinfarction aneury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myocardial contractility – decrease of ejection phase below 40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orbid aortic anomalies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6D90E-716A-4AAD-AC71-E4BE55BC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Text Box 1"/>
          <p:cNvSpPr/>
          <p:nvPr/>
        </p:nvSpPr>
        <p:spPr>
          <a:xfrm>
            <a:off x="250920" y="44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 Box 2"/>
          <p:cNvSpPr/>
          <p:nvPr/>
        </p:nvSpPr>
        <p:spPr>
          <a:xfrm>
            <a:off x="468360" y="1125360"/>
            <a:ext cx="7989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in psychophysical resting (psychomotor relax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nxie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res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mptoma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or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s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ne and streng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ic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rombophlebitis, hypostatic pneumonia and urinary infections (early mobiliz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of threshold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gin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the activi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diac pum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ate the developmen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ateral cir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regulation of hear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brinolytic syst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tiaggregatio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monize the autonomous nervous system (catecholami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pid metabolis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f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norma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ba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ngthen the work and lifes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2B42E-D689-4CF7-A352-028B459D9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 Box 2"/>
          <p:cNvSpPr/>
          <p:nvPr/>
        </p:nvSpPr>
        <p:spPr>
          <a:xfrm>
            <a:off x="46836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 program of activities needed to ensure the best possible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physical, emotional and social wellbe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the cardiac patients for enabling them resume a normal life as much as possible within their family and community 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im of rehabilitatio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s the restoration of the transiently lost or diminished capacity for life and work, i.e. the prevention or decrease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disabilit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improvement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f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operly conducted cardiac rehabilitation decreases mortality by 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27 – 31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61CAC-D2E3-46EC-BBE6-85A64FEFC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 process involves three ph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D2500-602C-45BA-B8DF-0F98D973D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 Box 3"/>
          <p:cNvSpPr/>
          <p:nvPr/>
        </p:nvSpPr>
        <p:spPr>
          <a:xfrm>
            <a:off x="179280" y="4076640"/>
            <a:ext cx="16560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surgical intensive-car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 Box 4"/>
          <p:cNvSpPr/>
          <p:nvPr/>
        </p:nvSpPr>
        <p:spPr>
          <a:xfrm>
            <a:off x="4923000" y="3230640"/>
            <a:ext cx="1819080" cy="825120"/>
          </a:xfrm>
          <a:prstGeom prst="rect">
            <a:avLst/>
          </a:prstGeom>
          <a:solidFill>
            <a:srgbClr val="00b050"/>
          </a:solidFill>
          <a:ln cap="sq"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3-5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 Box 5"/>
          <p:cNvSpPr/>
          <p:nvPr/>
        </p:nvSpPr>
        <p:spPr>
          <a:xfrm>
            <a:off x="4951440" y="4183200"/>
            <a:ext cx="182088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8-12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 Box 6"/>
          <p:cNvSpPr/>
          <p:nvPr/>
        </p:nvSpPr>
        <p:spPr>
          <a:xfrm>
            <a:off x="179280" y="3214800"/>
            <a:ext cx="1656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o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 Box 7"/>
          <p:cNvSpPr/>
          <p:nvPr/>
        </p:nvSpPr>
        <p:spPr>
          <a:xfrm>
            <a:off x="7308720" y="4071960"/>
            <a:ext cx="1366920" cy="6426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 Box 8"/>
          <p:cNvSpPr/>
          <p:nvPr/>
        </p:nvSpPr>
        <p:spPr>
          <a:xfrm>
            <a:off x="7308720" y="3538440"/>
            <a:ext cx="1366920" cy="3682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/f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 Box 9"/>
          <p:cNvSpPr/>
          <p:nvPr/>
        </p:nvSpPr>
        <p:spPr>
          <a:xfrm>
            <a:off x="2195640" y="3639960"/>
            <a:ext cx="2301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logy/ Cardio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AutoShape 10"/>
          <p:cNvSpPr/>
          <p:nvPr/>
        </p:nvSpPr>
        <p:spPr>
          <a:xfrm>
            <a:off x="1835280" y="386064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AutoShape 11"/>
          <p:cNvSpPr/>
          <p:nvPr/>
        </p:nvSpPr>
        <p:spPr>
          <a:xfrm rot="19920000">
            <a:off x="4497480" y="358740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AutoShape 12"/>
          <p:cNvSpPr/>
          <p:nvPr/>
        </p:nvSpPr>
        <p:spPr>
          <a:xfrm rot="2340000">
            <a:off x="4541400" y="4128840"/>
            <a:ext cx="457200" cy="252360"/>
          </a:xfrm>
          <a:prstGeom prst="rightArrow">
            <a:avLst>
              <a:gd name="adj1" fmla="val 50000"/>
              <a:gd name="adj2" fmla="val 57068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AutoShape 13"/>
          <p:cNvSpPr/>
          <p:nvPr/>
        </p:nvSpPr>
        <p:spPr>
          <a:xfrm rot="2400000">
            <a:off x="6697440" y="3685680"/>
            <a:ext cx="457200" cy="254160"/>
          </a:xfrm>
          <a:prstGeom prst="rightArrow">
            <a:avLst>
              <a:gd name="adj1" fmla="val 50000"/>
              <a:gd name="adj2" fmla="val 57022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AutoShape 14"/>
          <p:cNvSpPr/>
          <p:nvPr/>
        </p:nvSpPr>
        <p:spPr>
          <a:xfrm rot="19440000">
            <a:off x="6721200" y="409572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Line 15"/>
          <p:cNvSpPr/>
          <p:nvPr/>
        </p:nvSpPr>
        <p:spPr>
          <a:xfrm>
            <a:off x="4554360" y="1916280"/>
            <a:ext cx="180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Line 16"/>
          <p:cNvSpPr/>
          <p:nvPr/>
        </p:nvSpPr>
        <p:spPr>
          <a:xfrm>
            <a:off x="7093080" y="1916280"/>
            <a:ext cx="144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 Box 17"/>
          <p:cNvSpPr/>
          <p:nvPr/>
        </p:nvSpPr>
        <p:spPr>
          <a:xfrm>
            <a:off x="416520" y="147168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phase of hos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 Box 18"/>
          <p:cNvSpPr/>
          <p:nvPr/>
        </p:nvSpPr>
        <p:spPr>
          <a:xfrm>
            <a:off x="725040" y="21337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cute and early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 Box 19"/>
          <p:cNvSpPr/>
          <p:nvPr/>
        </p:nvSpPr>
        <p:spPr>
          <a:xfrm>
            <a:off x="4554360" y="1449360"/>
            <a:ext cx="23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phase of convalesc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 Box 20"/>
          <p:cNvSpPr/>
          <p:nvPr/>
        </p:nvSpPr>
        <p:spPr>
          <a:xfrm>
            <a:off x="4737240" y="21337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te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 Box 21"/>
          <p:cNvSpPr/>
          <p:nvPr/>
        </p:nvSpPr>
        <p:spPr>
          <a:xfrm>
            <a:off x="7093080" y="145584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phase of post-convales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 Box 22"/>
          <p:cNvSpPr/>
          <p:nvPr/>
        </p:nvSpPr>
        <p:spPr>
          <a:xfrm>
            <a:off x="7183440" y="21337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aintenanc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 Box 23"/>
          <p:cNvSpPr/>
          <p:nvPr/>
        </p:nvSpPr>
        <p:spPr>
          <a:xfrm>
            <a:off x="2320920" y="5357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 Box 24"/>
          <p:cNvSpPr/>
          <p:nvPr/>
        </p:nvSpPr>
        <p:spPr>
          <a:xfrm>
            <a:off x="4572000" y="5429160"/>
            <a:ext cx="250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eks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(2-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monitored physical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psychological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Change of life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 Box 25"/>
          <p:cNvSpPr/>
          <p:nvPr/>
        </p:nvSpPr>
        <p:spPr>
          <a:xfrm>
            <a:off x="7664400" y="5429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phase of hospit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 Box 2"/>
          <p:cNvSpPr/>
          <p:nvPr/>
        </p:nvSpPr>
        <p:spPr>
          <a:xfrm>
            <a:off x="457200" y="1222200"/>
            <a:ext cx="813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 program should never be started earlier than 2 days after the occurrence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lly, it starts on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, but in practice, it is more often on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4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ginning of an exercise program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raining is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vidually dose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interval and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t always starts with progress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ax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Schultz and unforc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bdominal breath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bdominal type of breathing requires a smaller energy expendi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6811D-2AFE-48B5-8455-50918CDAC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 Box 2"/>
          <p:cNvSpPr/>
          <p:nvPr/>
        </p:nvSpPr>
        <p:spPr>
          <a:xfrm>
            <a:off x="468360" y="1484280"/>
            <a:ext cx="8351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lying position („а“; „b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seating position („а“; „b“ and „c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standing next to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V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walking in a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 day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walking along a corridor of up to 50 m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100-200 m of 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39BB-9F4B-414B-A0FC-DD4086492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 Box 2"/>
          <p:cNvSpPr/>
          <p:nvPr/>
        </p:nvSpPr>
        <p:spPr>
          <a:xfrm>
            <a:off x="468360" y="1484280"/>
            <a:ext cx="8229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Mylin training staircase (it consists of 3 steps up and 3 steps down); the patient should repeat climbing up and down 5 times (training load corresponds to climbing stairs to the first floo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previous + limb-loaded ergometer cyc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8112B-4D3B-483B-B5CB-73C2E3287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Text Box 1"/>
          <p:cNvSpPr/>
          <p:nvPr/>
        </p:nvSpPr>
        <p:spPr>
          <a:xfrm>
            <a:off x="324000" y="1252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 Box 2"/>
          <p:cNvSpPr/>
          <p:nvPr/>
        </p:nvSpPr>
        <p:spPr>
          <a:xfrm>
            <a:off x="46836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 with an early rehabilitation program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ized institu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ardiovascular rehabilit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olled physical training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breathing exercises and muscle shaping exercises; interval ergometer training; walk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sychological support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anxiety; depres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ducation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hygienic-dietray regime; risk fact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nge of lif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institutions provide continuation of physical activity which should b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89FAB-3614-4598-86A5-6D7B2D3C3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Text Box 1"/>
          <p:cNvSpPr/>
          <p:nvPr/>
        </p:nvSpPr>
        <p:spPr>
          <a:xfrm>
            <a:off x="250920" y="484200"/>
            <a:ext cx="8569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hase – post-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 Box 2"/>
          <p:cNvSpPr/>
          <p:nvPr/>
        </p:nvSpPr>
        <p:spPr>
          <a:xfrm>
            <a:off x="468360" y="1268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osed physical activity according to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ndersen's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heart rate =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200 (210) – years of lif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±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aximal frequency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-80% HR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BD783-0BB9-458F-BC2D-A42FE11A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Text Box 1"/>
          <p:cNvSpPr/>
          <p:nvPr/>
        </p:nvSpPr>
        <p:spPr>
          <a:xfrm>
            <a:off x="324000" y="404640"/>
            <a:ext cx="8496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for discontinuation of КТh program after 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 Box 2"/>
          <p:cNvSpPr/>
          <p:nvPr/>
        </p:nvSpPr>
        <p:spPr>
          <a:xfrm>
            <a:off x="365040" y="1484280"/>
            <a:ext cx="847404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chycardi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30 /m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a 30% increase in comparison with the resting perio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dosed exercise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crease the volume and intensity of exercises or discontinue the training for a wh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80/120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permitted increase of  АТ and PULSE is up to 30% of the value at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ryth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in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ling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rtness of brea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getting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dd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leness or cyan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sudden decrease of ТА and puls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585DD-2501-4117-9311-387666779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ext Box 1"/>
          <p:cNvSpPr/>
          <p:nvPr/>
        </p:nvSpPr>
        <p:spPr>
          <a:xfrm>
            <a:off x="25092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mportance of early rehabilitation after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 Box 2"/>
          <p:cNvSpPr/>
          <p:nvPr/>
        </p:nvSpPr>
        <p:spPr>
          <a:xfrm>
            <a:off x="468360" y="981000"/>
            <a:ext cx="8529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systolic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lse r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need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the myocardi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iglyceride leve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ser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e of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LD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o in favour of protective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the coronary flow and improved formation of the collater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ronary blood flo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e occurrence of the lung atelectasis and hypostatic pneumoni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romboembolic com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brinolytic activ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nxiety and depressive manifesta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hospital leng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physical and professional dis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bidity and mortality r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F00A1-FBB0-42BA-88C8-DA4CBC9A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Text Box 1"/>
          <p:cNvSpPr/>
          <p:nvPr/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Rehabilitation of pulmonary pati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Respiratory rehabilita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A31FD-0EC3-4DA9-93DE-D13E98A32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Text Box 1"/>
          <p:cNvSpPr/>
          <p:nvPr/>
        </p:nvSpPr>
        <p:spPr>
          <a:xfrm>
            <a:off x="250920" y="561960"/>
            <a:ext cx="856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 Box 2"/>
          <p:cNvSpPr/>
          <p:nvPr/>
        </p:nvSpPr>
        <p:spPr>
          <a:xfrm>
            <a:off x="468360" y="1484280"/>
            <a:ext cx="8218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ulmonary rehabilitation is defined as an evidence-based,   multidisciplinary, comprehensiv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exercise and educ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progra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esigned to reduce symptoms of COPD, which restrict  daily life of these patients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hile being integrated in the individual patient treatment, pulmonary rehabilitation has been designed to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sympto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maintain the functional stat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increase active particip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patients and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cos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in healthcare through stabilization of systemic manifestations of this disease.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Common working groups of European Respiratory Society (ЕRS) and American Thoracic Society (АТS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11E39-3667-4B9F-9CD8-D91EC7C13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dications for cardiovascular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C84B4-7F14-447A-9CBC-60F71D5BA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Rectangle 3"/>
          <p:cNvSpPr/>
          <p:nvPr/>
        </p:nvSpPr>
        <p:spPr>
          <a:xfrm>
            <a:off x="4127400" y="191628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yocardial infar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Rectangle 4"/>
          <p:cNvSpPr/>
          <p:nvPr/>
        </p:nvSpPr>
        <p:spPr>
          <a:xfrm>
            <a:off x="5584680" y="2492280"/>
            <a:ext cx="23004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coronary angiopla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Rectangle 5"/>
          <p:cNvSpPr/>
          <p:nvPr/>
        </p:nvSpPr>
        <p:spPr>
          <a:xfrm>
            <a:off x="6084720" y="3213000"/>
            <a:ext cx="22989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open-heart surg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Rectangle 6"/>
          <p:cNvSpPr/>
          <p:nvPr/>
        </p:nvSpPr>
        <p:spPr>
          <a:xfrm>
            <a:off x="6188040" y="3789360"/>
            <a:ext cx="198432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ve reconstruction or artificial repla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Rectangle 7"/>
          <p:cNvSpPr/>
          <p:nvPr/>
        </p:nvSpPr>
        <p:spPr>
          <a:xfrm>
            <a:off x="6084720" y="450864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gina pecto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Rectangle 8"/>
          <p:cNvSpPr/>
          <p:nvPr/>
        </p:nvSpPr>
        <p:spPr>
          <a:xfrm>
            <a:off x="5373720" y="5373720"/>
            <a:ext cx="157464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rdiac insuffici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Rectangle 9"/>
          <p:cNvSpPr/>
          <p:nvPr/>
        </p:nvSpPr>
        <p:spPr>
          <a:xfrm>
            <a:off x="2627280" y="5411880"/>
            <a:ext cx="166860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erat transpla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Rectangle 10"/>
          <p:cNvSpPr/>
          <p:nvPr/>
        </p:nvSpPr>
        <p:spPr>
          <a:xfrm>
            <a:off x="1332000" y="4653000"/>
            <a:ext cx="202860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rgical treatment of congenital cardiac anomal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Rectangle 11"/>
          <p:cNvSpPr/>
          <p:nvPr/>
        </p:nvSpPr>
        <p:spPr>
          <a:xfrm>
            <a:off x="900000" y="3811680"/>
            <a:ext cx="22748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eripheral blood flow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Rectangle 12"/>
          <p:cNvSpPr/>
          <p:nvPr/>
        </p:nvSpPr>
        <p:spPr>
          <a:xfrm>
            <a:off x="1430280" y="2263680"/>
            <a:ext cx="23940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BG (Coronary Bypass Gra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Rectangle 13"/>
          <p:cNvSpPr/>
          <p:nvPr/>
        </p:nvSpPr>
        <p:spPr>
          <a:xfrm>
            <a:off x="900000" y="3205080"/>
            <a:ext cx="23925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CI (Percutaneous Coronary Interven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and effects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 Box 2"/>
          <p:cNvSpPr/>
          <p:nvPr/>
        </p:nvSpPr>
        <p:spPr>
          <a:xfrm>
            <a:off x="468360" y="155736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Basic aim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tion of symptom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life qualit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physical and social participation in daily life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Eff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of respiratory sympto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physical endura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in number of hospital stay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the quality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80E9E-0B57-4428-B922-0E9357C20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 Box 2"/>
          <p:cNvSpPr/>
          <p:nvPr/>
        </p:nvSpPr>
        <p:spPr>
          <a:xfrm>
            <a:off x="45720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iratory rehabilitation is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ulmonary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bstructive and restrictiv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stoperative compl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complications occurring due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 immobiliz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in bed-ridden patients (hypostatic pneumon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in new breathing patter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ulmonary complications in patients 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inal cord inju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4B9C6-47E9-4E22-B562-06C254FAE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lmonary diseases which allow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STRU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 Box 3"/>
          <p:cNvSpPr/>
          <p:nvPr/>
        </p:nvSpPr>
        <p:spPr>
          <a:xfrm>
            <a:off x="457200" y="2492280"/>
            <a:ext cx="404028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involvi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air pass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OP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a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stic fibr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sufficient expansio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dilation) of the lungs du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esions involving the chest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bones or muscl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of the lu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parenchym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5ADA7-47C8-4B7F-B0F4-0A6B31B8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unctional assessment of patiens with pulmonary dise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ital sig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ТА, heart rate, breathing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turation, body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p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eathing pattern; symmetrical chest movements; chest and spine defor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alp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chest wall elasticity; symmetrical chest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spiratory index (breathing ind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unctional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6-min and 12-min walk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Questionnaires about daily lif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74E25-76CB-4888-9BA5-8F7A50CE3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Text Box 1"/>
          <p:cNvSpPr/>
          <p:nvPr/>
        </p:nvSpPr>
        <p:spPr>
          <a:xfrm>
            <a:off x="250920" y="417600"/>
            <a:ext cx="8642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toi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 of bronchial coll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e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ing the breathing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rax mobilization with involvement of the anterior abdominal wall as a support for diaphragm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e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98EC1-C0C1-49CD-ACA9-C632CD0E7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 Box 2"/>
          <p:cNvSpPr/>
          <p:nvPr/>
        </p:nvSpPr>
        <p:spPr>
          <a:xfrm>
            <a:off x="39528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s are 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erosol) Тh (before drain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efore breathing exerci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ne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EE99A-AE51-40A6-A1DE-E22E8FF63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Text Box 1"/>
          <p:cNvSpPr/>
          <p:nvPr/>
        </p:nvSpPr>
        <p:spPr>
          <a:xfrm>
            <a:off x="395280" y="69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 Box 2"/>
          <p:cNvSpPr/>
          <p:nvPr/>
        </p:nvSpPr>
        <p:spPr>
          <a:xfrm>
            <a:off x="349200" y="1484280"/>
            <a:ext cx="4040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ce of bronchospasm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enters the lungs more easily than it come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s apt to use axilliary breathing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gets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 Box 3"/>
          <p:cNvSpPr/>
          <p:nvPr/>
        </p:nvSpPr>
        <p:spPr>
          <a:xfrm>
            <a:off x="4643280" y="692280"/>
            <a:ext cx="404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APEUTIC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 Box 4"/>
          <p:cNvSpPr/>
          <p:nvPr/>
        </p:nvSpPr>
        <p:spPr>
          <a:xfrm>
            <a:off x="4643280" y="1341360"/>
            <a:ext cx="4042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a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al drainage with percussion and vi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xation exercis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30FE8-B847-434E-90B1-F9AB0E232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3" name="AutoShape 6"/>
          <p:cNvCxnSpPr/>
          <p:nvPr/>
        </p:nvCxnSpPr>
        <p:spPr>
          <a:xfrm>
            <a:off x="457200" y="2925720"/>
            <a:ext cx="7781040" cy="1154880"/>
          </a:xfrm>
          <a:prstGeom prst="bentConnector3">
            <a:avLst>
              <a:gd name="adj1" fmla="val 49951"/>
            </a:avLst>
          </a:prstGeom>
          <a:ln cap="sq" w="57240">
            <a:solidFill>
              <a:srgbClr val="ff0000"/>
            </a:solidFill>
            <a:miter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spension of solid particles or liquid droplets in air 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-5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eparation for 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bstances that can be administered by inha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Medici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ronchodilators, secretolytics, bronchoprotective medicines, expectorants, antibiotics, antimycotic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atural age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neral, fresh and sea water (they have mucolythic effect, i.e.  they loosen sput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Other substanc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hysiological sa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ssential o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96A07-AAA7-4DF3-B51D-67F47476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mmediate and rapid contact between the medicine and great surface area of the tracheobronchial stem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ast onset of action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use of low doses of the medicin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 small number of systemic side eff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B08AC-1BE5-459E-9154-AB04B7AAE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2"/>
          <p:cNvSpPr/>
          <p:nvPr/>
        </p:nvSpPr>
        <p:spPr>
          <a:xfrm>
            <a:off x="539640" y="221616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rosol therapy is applied with the use of a standard jet-nebulizer with continuous airway pressure of 5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ADD95-ED76-4016-AB70-D3BEA8CA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ehabili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 Box 2"/>
          <p:cNvSpPr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ardiologist (supervis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otherapist; occupational therap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triti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Social wo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ccupational medicin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BA75C-D946-4885-9659-A5958724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Text Box 1"/>
          <p:cNvSpPr/>
          <p:nvPr/>
        </p:nvSpPr>
        <p:spPr>
          <a:xfrm>
            <a:off x="250920" y="3333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Drainage of respiratory airw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 Box 2"/>
          <p:cNvSpPr/>
          <p:nvPr/>
        </p:nvSpPr>
        <p:spPr>
          <a:xfrm>
            <a:off x="457200" y="118908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t is applied on the Mascagni's bed for posture drain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with the tilt mechanis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- 3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positions for postural drainage include: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Initial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depends on the lung segment that we wish to dr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in order to move the mucus more rapidly through the trach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oblique lying position with the head bent down — such that gravity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a maximal effect of facilitating  the mucus drainage from th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airw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the lung segment to be drained is uppermost on the patient's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Definite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for tracheal drainage, we use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oblique lying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4125E-9F19-407D-9EFC-FF2CE8B36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Text Box 1"/>
          <p:cNvSpPr/>
          <p:nvPr/>
        </p:nvSpPr>
        <p:spPr>
          <a:xfrm>
            <a:off x="250920" y="274680"/>
            <a:ext cx="8642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8799C-B134-48DD-B7FF-DF36CDAF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8" name="Picture 3" descr=""/>
          <p:cNvPicPr/>
          <p:nvPr/>
        </p:nvPicPr>
        <p:blipFill>
          <a:blip r:embed="rId1"/>
          <a:srcRect l="12354" t="26407" r="62658" b="8076"/>
          <a:stretch/>
        </p:blipFill>
        <p:spPr>
          <a:xfrm>
            <a:off x="611280" y="1268280"/>
            <a:ext cx="3240000" cy="496908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4" descr=""/>
          <p:cNvPicPr/>
          <p:nvPr/>
        </p:nvPicPr>
        <p:blipFill>
          <a:blip r:embed="rId2"/>
          <a:srcRect l="8232" t="10123" r="7726" b="10108"/>
          <a:stretch/>
        </p:blipFill>
        <p:spPr>
          <a:xfrm>
            <a:off x="4572000" y="3860640"/>
            <a:ext cx="3438360" cy="1965600"/>
          </a:xfrm>
          <a:prstGeom prst="rect">
            <a:avLst/>
          </a:prstGeom>
          <a:ln w="0">
            <a:noFill/>
          </a:ln>
        </p:spPr>
      </p:pic>
      <p:sp>
        <p:nvSpPr>
          <p:cNvPr id="2210" name="Text Box 5"/>
          <p:cNvSpPr/>
          <p:nvPr/>
        </p:nvSpPr>
        <p:spPr>
          <a:xfrm>
            <a:off x="4067280" y="1616040"/>
            <a:ext cx="46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ositions are assumed in such an order to allow shifting of the mucus towards the bronchi and the trachea, and its expulsion through coug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 Box 6"/>
          <p:cNvSpPr/>
          <p:nvPr/>
        </p:nvSpPr>
        <p:spPr>
          <a:xfrm>
            <a:off x="4587480" y="5769000"/>
            <a:ext cx="32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ite drainage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blique drainage posi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 Box 2"/>
          <p:cNvSpPr/>
          <p:nvPr/>
        </p:nvSpPr>
        <p:spPr>
          <a:xfrm>
            <a:off x="285840" y="1452600"/>
            <a:ext cx="84009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esides postural drainage, in order to achieve the removal of thick mucus from the walls of the airway passages, we simultaneously a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 Box 3"/>
          <p:cNvSpPr/>
          <p:nvPr/>
        </p:nvSpPr>
        <p:spPr>
          <a:xfrm>
            <a:off x="457200" y="250200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 Box 4"/>
          <p:cNvSpPr/>
          <p:nvPr/>
        </p:nvSpPr>
        <p:spPr>
          <a:xfrm>
            <a:off x="4116240" y="2502000"/>
            <a:ext cx="45705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bration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6FDC3-3AB0-4119-8A78-D0AEBC4998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Breathing with the lips closed around the mouthpiece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f a handheld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Varrying the postion of the steel ball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ncreased bronchial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which helps loosen secretions in the lu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ion on the bronchial walls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o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cause fluctation of P during expirium causes vibrations (8-26 Hz) whi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ve the secre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bronchi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23EEA-8E08-4FC3-A4F3-8608867C68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0" name="Picture 4" descr=""/>
          <p:cNvPicPr/>
          <p:nvPr/>
        </p:nvPicPr>
        <p:blipFill>
          <a:blip r:embed="rId1"/>
          <a:stretch/>
        </p:blipFill>
        <p:spPr>
          <a:xfrm>
            <a:off x="4500720" y="4699080"/>
            <a:ext cx="3886200" cy="101268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5" descr=""/>
          <p:cNvPicPr/>
          <p:nvPr/>
        </p:nvPicPr>
        <p:blipFill>
          <a:blip r:embed="rId2"/>
          <a:stretch/>
        </p:blipFill>
        <p:spPr>
          <a:xfrm>
            <a:off x="1143000" y="5373720"/>
            <a:ext cx="2303640" cy="102564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6" descr=""/>
          <p:cNvPicPr/>
          <p:nvPr/>
        </p:nvPicPr>
        <p:blipFill>
          <a:blip r:embed="rId3"/>
          <a:stretch/>
        </p:blipFill>
        <p:spPr>
          <a:xfrm>
            <a:off x="1143000" y="4137120"/>
            <a:ext cx="2303640" cy="106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Text Box 1"/>
          <p:cNvSpPr/>
          <p:nvPr/>
        </p:nvSpPr>
        <p:spPr>
          <a:xfrm>
            <a:off x="287280" y="0"/>
            <a:ext cx="8569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 Box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50244-E7B9-4B2A-8063-EBE1769EF5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5" name="Group 3"/>
          <p:cNvGrpSpPr/>
          <p:nvPr/>
        </p:nvGrpSpPr>
        <p:grpSpPr>
          <a:xfrm>
            <a:off x="287280" y="1112760"/>
            <a:ext cx="3678120" cy="3240360"/>
            <a:chOff x="287280" y="1112760"/>
            <a:chExt cx="3678120" cy="3240360"/>
          </a:xfrm>
        </p:grpSpPr>
        <p:pic>
          <p:nvPicPr>
            <p:cNvPr id="2226" name="Picture 4" descr=""/>
            <p:cNvPicPr/>
            <p:nvPr/>
          </p:nvPicPr>
          <p:blipFill>
            <a:blip r:embed="rId1"/>
            <a:stretch/>
          </p:blipFill>
          <p:spPr>
            <a:xfrm>
              <a:off x="401760" y="1539720"/>
              <a:ext cx="35636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5"/>
            <p:cNvSpPr/>
            <p:nvPr/>
          </p:nvSpPr>
          <p:spPr>
            <a:xfrm>
              <a:off x="287280" y="1112760"/>
              <a:ext cx="188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requency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-26H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Text Box 6"/>
            <p:cNvSpPr/>
            <p:nvPr/>
          </p:nvSpPr>
          <p:spPr>
            <a:xfrm>
              <a:off x="554040" y="3628440"/>
              <a:ext cx="28335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ronchial volume changes in flutter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7"/>
          <p:cNvGrpSpPr/>
          <p:nvPr/>
        </p:nvGrpSpPr>
        <p:grpSpPr>
          <a:xfrm>
            <a:off x="4267080" y="2209680"/>
            <a:ext cx="4662720" cy="4113360"/>
            <a:chOff x="4267080" y="2209680"/>
            <a:chExt cx="4662720" cy="4113360"/>
          </a:xfrm>
        </p:grpSpPr>
        <p:pic>
          <p:nvPicPr>
            <p:cNvPr id="2230" name="Picture 8" descr=""/>
            <p:cNvPicPr/>
            <p:nvPr/>
          </p:nvPicPr>
          <p:blipFill>
            <a:blip r:embed="rId2"/>
            <a:stretch/>
          </p:blipFill>
          <p:spPr>
            <a:xfrm>
              <a:off x="4267080" y="2209680"/>
              <a:ext cx="466272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1" name="Text Box 9"/>
            <p:cNvSpPr/>
            <p:nvPr/>
          </p:nvSpPr>
          <p:spPr>
            <a:xfrm>
              <a:off x="4282920" y="4179960"/>
              <a:ext cx="13701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outhpie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Text Box 10"/>
            <p:cNvSpPr/>
            <p:nvPr/>
          </p:nvSpPr>
          <p:spPr>
            <a:xfrm>
              <a:off x="7694640" y="4876920"/>
              <a:ext cx="1158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teel b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 Box 2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268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volv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nual manouvers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respiratory gymnast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applying pressure with finger tips, wrists or thumbs to the certain ar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auses pain and pressure over the muscles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“central increase of excitabilit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which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makes breathing dee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y attention about the intensity and rhythm of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imul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rong stimuli are blockin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the weak ones are not effective, too fas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absence of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ceded by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cement of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warm and cold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ompres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n the back, chest and stomach to reduce the skin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D1DAE-E390-42FC-BA08-E0A9332456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Text Box 1"/>
          <p:cNvSpPr/>
          <p:nvPr/>
        </p:nvSpPr>
        <p:spPr>
          <a:xfrm>
            <a:off x="250920" y="536400"/>
            <a:ext cx="86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 Box 2"/>
          <p:cNvSpPr/>
          <p:nvPr/>
        </p:nvSpPr>
        <p:spPr>
          <a:xfrm>
            <a:off x="395280" y="1981080"/>
            <a:ext cx="446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back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lateral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Picture 3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4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240000" cy="1835280"/>
          </a:xfrm>
          <a:prstGeom prst="rect">
            <a:avLst/>
          </a:prstGeom>
          <a:ln w="0">
            <a:noFill/>
          </a:ln>
        </p:spPr>
      </p:pic>
      <p:sp>
        <p:nvSpPr>
          <p:cNvPr id="2240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78FC0-5CF5-40F4-A55A-97B6E87367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 Box 2"/>
          <p:cNvSpPr/>
          <p:nvPr/>
        </p:nvSpPr>
        <p:spPr>
          <a:xfrm>
            <a:off x="395280" y="19810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euver with pressure on the medial edge of the scap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ipulation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. pectoralis maj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3" name="Picture 3" descr=""/>
          <p:cNvPicPr/>
          <p:nvPr/>
        </p:nvPicPr>
        <p:blipFill>
          <a:blip r:embed="rId1"/>
          <a:stretch/>
        </p:blipFill>
        <p:spPr>
          <a:xfrm>
            <a:off x="5638680" y="1916280"/>
            <a:ext cx="2894040" cy="201744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4" descr=""/>
          <p:cNvPicPr/>
          <p:nvPr/>
        </p:nvPicPr>
        <p:blipFill>
          <a:blip r:embed="rId2"/>
          <a:stretch/>
        </p:blipFill>
        <p:spPr>
          <a:xfrm>
            <a:off x="5624640" y="4467240"/>
            <a:ext cx="2894040" cy="1886040"/>
          </a:xfrm>
          <a:prstGeom prst="rect">
            <a:avLst/>
          </a:prstGeom>
          <a:ln w="0">
            <a:noFill/>
          </a:ln>
        </p:spPr>
      </p:pic>
      <p:sp>
        <p:nvSpPr>
          <p:cNvPr id="2245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88976-B670-4BE8-947B-DDFE3E8E4D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Text Box 1"/>
          <p:cNvSpPr/>
          <p:nvPr/>
        </p:nvSpPr>
        <p:spPr>
          <a:xfrm>
            <a:off x="250920" y="3459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fore exercis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– 20 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should lie on his back with mildly bent legs at the knees (a pillow is placed under the knees) and listen to the calming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al relax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1F1A0-5469-4BE7-B42F-E88390F8F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4. Breathing exerci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A2171-5628-4953-B388-C8F93E9AC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assessment of functional capa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 Box 2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parameter of the functional capacity of the cardiac patients: determination of the oxygen consumption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"anaerobic threshold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largest amount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the heart can offer to the tissues an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largest amount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muscle fibers can utilise during intens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is usually expressed b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nits of metabolic equivalent at r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МЕТ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MET = consumption of 3,5 ml 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per kg/body weight/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 МЕТ corresponds to the level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consumption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 in a healthy man weighing 70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, at rest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585C0-4AC2-49AE-9639-923A14F7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ns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 Box 2"/>
          <p:cNvSpPr/>
          <p:nvPr/>
        </p:nvSpPr>
        <p:spPr>
          <a:xfrm>
            <a:off x="4572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nspirium and the first ⅓ of the expirium) – the primary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cos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cles (exter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piratory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BE11C-9BDB-44CE-B1F0-E83C9EE2E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Ex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 Box 2"/>
          <p:cNvSpPr/>
          <p:nvPr/>
        </p:nvSpPr>
        <p:spPr>
          <a:xfrm>
            <a:off x="12492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IRATION – pass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d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xpirat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tissimus do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quadratus lumb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serratus posterior in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C2390-DFA9-416C-97A5-4CCE5B56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Rectangle 4"/>
          <p:cNvSpPr/>
          <p:nvPr/>
        </p:nvSpPr>
        <p:spPr>
          <a:xfrm>
            <a:off x="7380360" y="1027080"/>
            <a:ext cx="154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Rectangle 5"/>
          <p:cNvSpPr/>
          <p:nvPr/>
        </p:nvSpPr>
        <p:spPr>
          <a:xfrm>
            <a:off x="8161200" y="1484280"/>
            <a:ext cx="90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Rectangle 6"/>
          <p:cNvSpPr/>
          <p:nvPr/>
        </p:nvSpPr>
        <p:spPr>
          <a:xfrm>
            <a:off x="5435640" y="1628640"/>
            <a:ext cx="10810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Text Box 1"/>
          <p:cNvSpPr/>
          <p:nvPr/>
        </p:nvSpPr>
        <p:spPr>
          <a:xfrm>
            <a:off x="227160" y="-6660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 Box 2"/>
          <p:cNvSpPr/>
          <p:nvPr/>
        </p:nvSpPr>
        <p:spPr>
          <a:xfrm>
            <a:off x="457200" y="1278000"/>
            <a:ext cx="82296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4-1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breaths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dults; an infant 4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˃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pathologica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xercises have an effect only on th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uxilliar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еspiratory muscle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dominal and the levator muscles of the rib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ile the main respiratory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do not improve their func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Campbel, 196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iaphragmatic breathing is seen in men, while women use cos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ir resistance is 2-3 times greater when breathing through the nose than through the 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1260B-7176-4178-827C-01343CA89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spiratory K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lung vent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E consumption required fo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allev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choking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the chest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limination of the bronchogenic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OTHER ai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deformiti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correc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chest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pleur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adhesio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23867-9F2C-4053-9E57-DF2069E02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Text Box 1"/>
          <p:cNvSpPr/>
          <p:nvPr/>
        </p:nvSpPr>
        <p:spPr>
          <a:xfrm>
            <a:off x="324000" y="11592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 Box 2"/>
          <p:cNvSpPr/>
          <p:nvPr/>
        </p:nvSpPr>
        <p:spPr>
          <a:xfrm>
            <a:off x="45720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inciples of breathing exerci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has a shor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ns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inhalation) through the nos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then a slo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ex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exalation) with the mouth half-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Expirium is 2-3 times longe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an inspi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should use (elevate) auxilliary respiratory muscles (exercises for strengthening the abdominal muscles) and hold arms on the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are first performed in a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ying posi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sitt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then, while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381BE-83E2-4C4C-B900-8D3CACF9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1"/>
          <p:cNvSpPr/>
          <p:nvPr/>
        </p:nvSpPr>
        <p:spPr>
          <a:xfrm>
            <a:off x="250920" y="549360"/>
            <a:ext cx="85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 Box 2"/>
          <p:cNvSpPr/>
          <p:nvPr/>
        </p:nvSpPr>
        <p:spPr>
          <a:xfrm>
            <a:off x="4284720" y="19810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phragmatic and lower costal breathing tr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dbag breathing for diaphrag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1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189240" cy="193500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4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189240" cy="1908360"/>
          </a:xfrm>
          <a:prstGeom prst="rect">
            <a:avLst/>
          </a:prstGeom>
          <a:ln w="0">
            <a:noFill/>
          </a:ln>
        </p:spPr>
      </p:pic>
      <p:sp>
        <p:nvSpPr>
          <p:cNvPr id="2273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2AB3C-42DA-410C-85FA-07BADD6B37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 Box 2"/>
          <p:cNvSpPr/>
          <p:nvPr/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c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whis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6" name="Picture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2616120" cy="1654200"/>
          </a:xfrm>
          <a:prstGeom prst="rect">
            <a:avLst/>
          </a:prstGeom>
          <a:ln w="0">
            <a:noFill/>
          </a:ln>
        </p:spPr>
      </p:pic>
      <p:pic>
        <p:nvPicPr>
          <p:cNvPr id="2277" name="Picture 4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2577960" cy="1800360"/>
          </a:xfrm>
          <a:prstGeom prst="rect">
            <a:avLst/>
          </a:prstGeom>
          <a:ln w="0">
            <a:noFill/>
          </a:ln>
        </p:spPr>
      </p:pic>
      <p:sp>
        <p:nvSpPr>
          <p:cNvPr id="2278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CA956-7D40-4BC5-94ED-EF074DA767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Picture 2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281" name="Text Box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FC4BD-C5BE-4AC2-874F-47FD483A85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 Box 2"/>
          <p:cNvSpPr/>
          <p:nvPr/>
        </p:nvSpPr>
        <p:spPr>
          <a:xfrm>
            <a:off x="4648320" y="219384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props for b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soap bub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4" name="Picture 3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914560" cy="214308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4" descr=""/>
          <p:cNvPicPr/>
          <p:nvPr/>
        </p:nvPicPr>
        <p:blipFill>
          <a:blip r:embed="rId2"/>
          <a:stretch/>
        </p:blipFill>
        <p:spPr>
          <a:xfrm>
            <a:off x="952560" y="2057400"/>
            <a:ext cx="2971800" cy="1677960"/>
          </a:xfrm>
          <a:prstGeom prst="rect">
            <a:avLst/>
          </a:prstGeom>
          <a:ln w="0">
            <a:noFill/>
          </a:ln>
        </p:spPr>
      </p:pic>
      <p:sp>
        <p:nvSpPr>
          <p:cNvPr id="2286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749CD-F935-4C84-89AF-A7E83FE452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 Box 2"/>
          <p:cNvSpPr/>
          <p:nvPr/>
        </p:nvSpPr>
        <p:spPr>
          <a:xfrm>
            <a:off x="4572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cloergometer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arious  gymnastic exercises involving the extremities, abdominal and back musculatur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ing; exercises with weights; Tai-chi; hydro-КТ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: 20-30 min, 2-3 times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should be performed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48D51-9E66-4A37-8BBE-29DF065DF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Physical workload,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 functional capacit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, physiological symptoms and </a:t>
            </a:r>
            <a:r>
              <a:rPr b="1" lang="hr-HR" sz="3400" spc="-1" strike="noStrike">
                <a:solidFill>
                  <a:srgbClr val="000000"/>
                </a:solidFill>
                <a:latin typeface="Calibri"/>
              </a:rPr>
              <a:t>M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2" name="Group 2"/>
          <p:cNvGrpSpPr/>
          <p:nvPr/>
        </p:nvGrpSpPr>
        <p:grpSpPr>
          <a:xfrm>
            <a:off x="179280" y="1341360"/>
            <a:ext cx="8769600" cy="5408640"/>
            <a:chOff x="179280" y="1341360"/>
            <a:chExt cx="8769600" cy="5408640"/>
          </a:xfrm>
        </p:grpSpPr>
        <p:sp>
          <p:nvSpPr>
            <p:cNvPr id="2013" name="Rectangle 3"/>
            <p:cNvSpPr/>
            <p:nvPr/>
          </p:nvSpPr>
          <p:spPr>
            <a:xfrm>
              <a:off x="179280" y="1341360"/>
              <a:ext cx="2180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orkload gr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4"/>
            <p:cNvSpPr/>
            <p:nvPr/>
          </p:nvSpPr>
          <p:spPr>
            <a:xfrm>
              <a:off x="2374200" y="1341360"/>
              <a:ext cx="145836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capac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5"/>
            <p:cNvSpPr/>
            <p:nvPr/>
          </p:nvSpPr>
          <p:spPr>
            <a:xfrm>
              <a:off x="3842640" y="1341360"/>
              <a:ext cx="3386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symptom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"/>
            <p:cNvSpPr/>
            <p:nvPr/>
          </p:nvSpPr>
          <p:spPr>
            <a:xfrm>
              <a:off x="7247160" y="1341360"/>
              <a:ext cx="168552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М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7"/>
            <p:cNvSpPr/>
            <p:nvPr/>
          </p:nvSpPr>
          <p:spPr>
            <a:xfrm>
              <a:off x="179280" y="2347560"/>
              <a:ext cx="2180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eavy to very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8"/>
            <p:cNvSpPr/>
            <p:nvPr/>
          </p:nvSpPr>
          <p:spPr>
            <a:xfrm>
              <a:off x="2374200" y="2347560"/>
              <a:ext cx="145836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Norm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9"/>
            <p:cNvSpPr/>
            <p:nvPr/>
          </p:nvSpPr>
          <p:spPr>
            <a:xfrm>
              <a:off x="3842640" y="2347560"/>
              <a:ext cx="3386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ymptoma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10"/>
            <p:cNvSpPr/>
            <p:nvPr/>
          </p:nvSpPr>
          <p:spPr>
            <a:xfrm>
              <a:off x="7247160" y="2347560"/>
              <a:ext cx="168552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≥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11"/>
            <p:cNvSpPr/>
            <p:nvPr/>
          </p:nvSpPr>
          <p:spPr>
            <a:xfrm>
              <a:off x="179280" y="3106080"/>
              <a:ext cx="2180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edium to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12"/>
            <p:cNvSpPr/>
            <p:nvPr/>
          </p:nvSpPr>
          <p:spPr>
            <a:xfrm>
              <a:off x="2374200" y="3106080"/>
              <a:ext cx="145836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Rectangle 13"/>
            <p:cNvSpPr/>
            <p:nvPr/>
          </p:nvSpPr>
          <p:spPr>
            <a:xfrm>
              <a:off x="3842640" y="3106080"/>
              <a:ext cx="3386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-No limit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of physical activ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Rectangle 14"/>
            <p:cNvSpPr/>
            <p:nvPr/>
          </p:nvSpPr>
          <p:spPr>
            <a:xfrm>
              <a:off x="7247160" y="3106080"/>
              <a:ext cx="168552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˃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Rectangle 15"/>
            <p:cNvSpPr/>
            <p:nvPr/>
          </p:nvSpPr>
          <p:spPr>
            <a:xfrm>
              <a:off x="179280" y="4013640"/>
              <a:ext cx="2180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ght to medium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Rectangle 16"/>
            <p:cNvSpPr/>
            <p:nvPr/>
          </p:nvSpPr>
          <p:spPr>
            <a:xfrm>
              <a:off x="2374200" y="4013640"/>
              <a:ext cx="145836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Rectangle 17"/>
            <p:cNvSpPr/>
            <p:nvPr/>
          </p:nvSpPr>
          <p:spPr>
            <a:xfrm>
              <a:off x="3842640" y="4013640"/>
              <a:ext cx="3386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slight to moderate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Rectangle 18"/>
            <p:cNvSpPr/>
            <p:nvPr/>
          </p:nvSpPr>
          <p:spPr>
            <a:xfrm>
              <a:off x="7247160" y="4013640"/>
              <a:ext cx="168552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 –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Rectangle 19"/>
            <p:cNvSpPr/>
            <p:nvPr/>
          </p:nvSpPr>
          <p:spPr>
            <a:xfrm>
              <a:off x="179280" y="4921560"/>
              <a:ext cx="2180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 to light work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Rectangle 20"/>
            <p:cNvSpPr/>
            <p:nvPr/>
          </p:nvSpPr>
          <p:spPr>
            <a:xfrm>
              <a:off x="2374200" y="4921560"/>
              <a:ext cx="145836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Rectangle 21"/>
            <p:cNvSpPr/>
            <p:nvPr/>
          </p:nvSpPr>
          <p:spPr>
            <a:xfrm>
              <a:off x="3842640" y="4921560"/>
              <a:ext cx="3386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moderate to marked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Rectangle 22"/>
            <p:cNvSpPr/>
            <p:nvPr/>
          </p:nvSpPr>
          <p:spPr>
            <a:xfrm>
              <a:off x="7247160" y="4921560"/>
              <a:ext cx="168552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 –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Rectangle 23"/>
            <p:cNvSpPr/>
            <p:nvPr/>
          </p:nvSpPr>
          <p:spPr>
            <a:xfrm>
              <a:off x="179280" y="5835600"/>
              <a:ext cx="2180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Rectangle 24"/>
            <p:cNvSpPr/>
            <p:nvPr/>
          </p:nvSpPr>
          <p:spPr>
            <a:xfrm>
              <a:off x="2374200" y="5835600"/>
              <a:ext cx="145836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Rectangle 25"/>
            <p:cNvSpPr/>
            <p:nvPr/>
          </p:nvSpPr>
          <p:spPr>
            <a:xfrm>
              <a:off x="3842640" y="5835600"/>
              <a:ext cx="3386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– symptoms present,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even at rest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fatigue, arrhythmia, choking, А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Rectangle 26"/>
            <p:cNvSpPr/>
            <p:nvPr/>
          </p:nvSpPr>
          <p:spPr>
            <a:xfrm>
              <a:off x="7247160" y="5835600"/>
              <a:ext cx="168552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 –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27"/>
            <p:cNvSpPr/>
            <p:nvPr/>
          </p:nvSpPr>
          <p:spPr>
            <a:xfrm>
              <a:off x="237420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28"/>
            <p:cNvSpPr/>
            <p:nvPr/>
          </p:nvSpPr>
          <p:spPr>
            <a:xfrm>
              <a:off x="384264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9"/>
            <p:cNvSpPr/>
            <p:nvPr/>
          </p:nvSpPr>
          <p:spPr>
            <a:xfrm>
              <a:off x="724716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30"/>
            <p:cNvSpPr/>
            <p:nvPr/>
          </p:nvSpPr>
          <p:spPr>
            <a:xfrm>
              <a:off x="179280" y="2347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31"/>
            <p:cNvSpPr/>
            <p:nvPr/>
          </p:nvSpPr>
          <p:spPr>
            <a:xfrm>
              <a:off x="179280" y="310608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32"/>
            <p:cNvSpPr/>
            <p:nvPr/>
          </p:nvSpPr>
          <p:spPr>
            <a:xfrm>
              <a:off x="179280" y="401364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Line 33"/>
            <p:cNvSpPr/>
            <p:nvPr/>
          </p:nvSpPr>
          <p:spPr>
            <a:xfrm>
              <a:off x="179280" y="4921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Line 34"/>
            <p:cNvSpPr/>
            <p:nvPr/>
          </p:nvSpPr>
          <p:spPr>
            <a:xfrm>
              <a:off x="179280" y="58356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35"/>
            <p:cNvSpPr/>
            <p:nvPr/>
          </p:nvSpPr>
          <p:spPr>
            <a:xfrm>
              <a:off x="1792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Line 36"/>
            <p:cNvSpPr/>
            <p:nvPr/>
          </p:nvSpPr>
          <p:spPr>
            <a:xfrm>
              <a:off x="89488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37"/>
            <p:cNvSpPr/>
            <p:nvPr/>
          </p:nvSpPr>
          <p:spPr>
            <a:xfrm>
              <a:off x="179280" y="13413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Line 38"/>
            <p:cNvSpPr/>
            <p:nvPr/>
          </p:nvSpPr>
          <p:spPr>
            <a:xfrm>
              <a:off x="179280" y="67500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9" name="Text Box 3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6061C-6798-455C-9E4A-730170B1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limat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most suitable is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moderate-altitude climate (маx 80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!!!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nd coastal climate, although there is an individual reaction to 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EC5AC-8491-439E-A03E-2CE0337FB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Text Box 1"/>
          <p:cNvSpPr/>
          <p:nvPr/>
        </p:nvSpPr>
        <p:spPr>
          <a:xfrm>
            <a:off x="179280" y="4046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rapeutic classification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cardiac patien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 Box 2"/>
          <p:cNvSpPr/>
          <p:nvPr/>
        </p:nvSpPr>
        <p:spPr>
          <a:xfrm>
            <a:off x="468360" y="1484280"/>
            <a:ext cx="83707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А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B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wh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uld avoid strenous activit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mpetition at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C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limi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hysical activities, but who should be prohibi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reat physical exer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D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ies need to be greatly limi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Е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te bed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involves staying in bed or wheeling ch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60347-B627-4AD2-B531-62E46433A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Text Box 1"/>
          <p:cNvSpPr/>
          <p:nvPr/>
        </p:nvSpPr>
        <p:spPr>
          <a:xfrm>
            <a:off x="250920" y="62064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 Box 2"/>
          <p:cNvSpPr/>
          <p:nvPr/>
        </p:nvSpPr>
        <p:spPr>
          <a:xfrm>
            <a:off x="468360" y="1484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 Physical examination of the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the heart 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blood pressure 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ussion, palpation and auscul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cardiographic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app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devi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thological ECG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80430-7855-4526-828E-5B2DB4E1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 Box 2"/>
          <p:cNvSpPr/>
          <p:nvPr/>
        </p:nvSpPr>
        <p:spPr>
          <a:xfrm>
            <a:off x="468360" y="1484280"/>
            <a:ext cx="8370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oratory 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 standard indicators (sedimentation, complete blood count, glycaemia, cholesterol, urine, urea, triglycerides,  urine, urea, blood group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b) cholesterol fractions, transaminase, apoprotein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determination of C-reactive protei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) determination of fibrinopeptide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) determination of electrol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nti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chocardi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giocardiography (coronarograph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lectrical bioimpe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96B3E-6D1B-41F3-A83A-D4253ECF9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4:35:16Z</dcterms:created>
  <dc:creator>WIN98SE</dc:creator>
  <dc:description/>
  <dc:language>en-US</dc:language>
  <cp:lastModifiedBy>Nada Miklja</cp:lastModifiedBy>
  <dcterms:modified xsi:type="dcterms:W3CDTF">2023-09-27T09:32:47Z</dcterms:modified>
  <cp:revision>424</cp:revision>
  <dc:subject/>
  <dc:title>Rehabilitacija AIM</dc:title>
</cp:coreProperties>
</file>